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8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CB4C-74AC-45AF-AB33-7332C2D6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ABA02-7447-4A6B-AEEE-6FB8C7AD93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08BD4-2073-4093-A432-7DB17B0EEA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it’s listy, but I think these are important poin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16E75-C357-4DBE-8255-B02A822CED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B4BAA-8E7A-4700-8634-F3A529F7A6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3E28F-C7A5-426F-AC6B-CF85FB32F7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3472D-027C-4686-A3BD-CCB6877963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E4A79-F3CA-4E9C-84B7-208D248133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to Tricia Gomes and explain how Transitions and Anticipatory Governance fit into trajectory that city and planning department were heading 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C350D-2FBF-495E-B04B-A4DCC09A21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E65-A6ED-467C-B762-9C32C87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F62-C399-437D-A8B9-B545F8C8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AE5-0C9F-4006-961B-BF719EB0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476-75EE-4CF4-8C06-5D98F338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A31-1DA9-4F47-BC3C-89AA40E1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867-6CA4-41EF-A2D7-2BE59F7A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821-A122-4AE4-9CC6-3F4CA04F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286-65AC-49CC-927B-88E0CBCF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78F-A191-47E2-AE7C-BED8EC5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80F-4EEB-492D-96B7-B8B301B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CC4-B3A3-4D60-8052-B7BF311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C30-DBFA-40F7-9F58-BF591E4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8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8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8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88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8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A64E-FA86-4A1D-A6C4-A7447D497547}" type="datetime">
              <a:rPr b="0" lang="de-DE" sz="1400" spc="-1" strike="noStrike">
                <a:solidFill>
                  <a:srgbClr val="000088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88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804-2B42-4AB1-AAA3-296A7C974BDF}" type="slidenum">
              <a:rPr b="0" lang="de-DE" sz="1400" spc="-1" strike="noStrike">
                <a:solidFill>
                  <a:srgbClr val="000088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yc.gov/html/planyc2030/html/plan/plan.s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8"/>
                </a:solidFill>
                <a:latin typeface="Calibri"/>
              </a:rPr>
              <a:t>Anticipatory Governance in Phoenix</a:t>
            </a:r>
            <a:endParaRPr b="0" lang="en-US" sz="44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5562720"/>
            <a:ext cx="8382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88"/>
                </a:solidFill>
                <a:latin typeface="Verdana"/>
                <a:ea typeface="ＭＳ Ｐゴシック"/>
              </a:rPr>
              <a:t>Sustainable Cities Network Conference, October 20th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06440" y="3219480"/>
            <a:ext cx="820404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Arnim Wiek, Braden Kay, Lauren Withyco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School of Sustainability, Arizon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Tricia Gomes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City of Phoenix, Planning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380880" y="6424560"/>
            <a:ext cx="3500640" cy="25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OSlogo"/>
          <p:cNvPicPr/>
          <p:nvPr/>
        </p:nvPicPr>
        <p:blipFill>
          <a:blip r:embed="rId2"/>
          <a:stretch/>
        </p:blipFill>
        <p:spPr>
          <a:xfrm>
            <a:off x="7196040" y="6262560"/>
            <a:ext cx="15670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Gnusch"/>
          <p:cNvPicPr/>
          <p:nvPr/>
        </p:nvPicPr>
        <p:blipFill>
          <a:blip r:embed="rId3"/>
          <a:stretch/>
        </p:blipFill>
        <p:spPr>
          <a:xfrm>
            <a:off x="2604960" y="304920"/>
            <a:ext cx="129708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urbanPHX"/>
          <p:cNvPicPr/>
          <p:nvPr/>
        </p:nvPicPr>
        <p:blipFill>
          <a:blip r:embed="rId4"/>
          <a:stretch/>
        </p:blipFill>
        <p:spPr>
          <a:xfrm>
            <a:off x="5013360" y="304920"/>
            <a:ext cx="1949400" cy="97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4095720" y="304920"/>
            <a:ext cx="725400" cy="97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5" descr="_MG_9915.jpg"/>
          <p:cNvPicPr/>
          <p:nvPr/>
        </p:nvPicPr>
        <p:blipFill>
          <a:blip r:embed="rId6"/>
          <a:stretch/>
        </p:blipFill>
        <p:spPr>
          <a:xfrm>
            <a:off x="7156440" y="306360"/>
            <a:ext cx="1454040" cy="968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7"/>
          <a:stretch/>
        </p:blipFill>
        <p:spPr>
          <a:xfrm>
            <a:off x="450720" y="304920"/>
            <a:ext cx="1962360" cy="968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A Vision for a Sustainable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04920" y="2438280"/>
            <a:ext cx="8534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Structured vision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Conflicting values identified and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Individual preferences nego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Environmental quality, social justice, and future generations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Based on more than 1000 vision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3 hour event with 120 participants from across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52280" y="144792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I get up in the morning I can check my blackberry to find out when the next train comes to take me to work. At work, I log into my zip car account to reserve my 3 pm meeting and return the car near my meeting. At 6 pm I take my car to the LRT to head downtown to meet my daughter and grandson for dinner and play at civic park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The Current State of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85800" y="14479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4640" indent="-404640">
              <a:lnSpc>
                <a:spcPct val="10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Calibri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0880" y="114300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Complete picture of the City and how it functions as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5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Not a “laundry list” but a </a:t>
            </a:r>
            <a:r>
              <a:rPr b="0" lang="en-US" sz="2000" spc="-1" strike="noStrike" u="sng">
                <a:solidFill>
                  <a:srgbClr val="000088"/>
                </a:solidFill>
                <a:uFillTx/>
                <a:latin typeface="Calibri"/>
                <a:ea typeface="Osaka"/>
              </a:rPr>
              <a:t>system</a:t>
            </a: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5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Analysis of problems and their root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Data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5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Having the right data for sustainable anticipatory governa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533520" y="4619520"/>
            <a:ext cx="807696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036800" y="4619520"/>
            <a:ext cx="25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e Indic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k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3886200" y="4619520"/>
            <a:ext cx="4648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e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hoenix scored 28</a:t>
            </a:r>
            <a:r>
              <a:rPr b="0" lang="en-CA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out of the 40 largest US cities in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Walkscore’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 rating of US cities for walkability.  Calculating walking scores based on the proximity of basic amenities, Phoenix neighbourhoods averaged a score of 50 out of 1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-76320" y="0"/>
            <a:ext cx="9296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Alternative Scenarios of Phoeni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85800" y="14479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4640" indent="-404640">
              <a:lnSpc>
                <a:spcPct val="10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Calibri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80880" y="1143000"/>
            <a:ext cx="8610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9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We cannot 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predict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the future, so we anticipate 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possible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Scenarios contrasting th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Scenarios that consider the consequences of </a:t>
            </a:r>
            <a:r>
              <a:rPr b="0" lang="en-US" sz="2400" spc="-1" strike="noStrike" u="sng">
                <a:solidFill>
                  <a:srgbClr val="000088"/>
                </a:solidFill>
                <a:uFillTx/>
                <a:latin typeface="Calibri"/>
              </a:rPr>
              <a:t>in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Test strategies against scenarios to make them more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1143000" y="4952880"/>
            <a:ext cx="1047600" cy="1047960"/>
          </a:xfrm>
          <a:prstGeom prst="ellipse">
            <a:avLst/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-304920" y="4952880"/>
            <a:ext cx="4038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8"/>
                </a:solidFill>
                <a:latin typeface="Calibri"/>
              </a:rPr>
              <a:t>Phoen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8"/>
                </a:solidFill>
                <a:latin typeface="Calibri"/>
              </a:rPr>
              <a:t>Behind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8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3311640" y="4340160"/>
            <a:ext cx="4038480" cy="654120"/>
            <a:chOff x="3311640" y="4340160"/>
            <a:chExt cx="4038480" cy="654120"/>
          </a:xfrm>
        </p:grpSpPr>
        <p:sp>
          <p:nvSpPr>
            <p:cNvPr id="146" name="AutoShape 9"/>
            <p:cNvSpPr/>
            <p:nvPr/>
          </p:nvSpPr>
          <p:spPr>
            <a:xfrm>
              <a:off x="3854160" y="4340160"/>
              <a:ext cx="2839680" cy="5065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Content Placeholder 2"/>
            <p:cNvSpPr/>
            <p:nvPr/>
          </p:nvSpPr>
          <p:spPr>
            <a:xfrm>
              <a:off x="3311640" y="4340160"/>
              <a:ext cx="4038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hriving Businesse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truggling Work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0088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1"/>
          <p:cNvGrpSpPr/>
          <p:nvPr/>
        </p:nvGrpSpPr>
        <p:grpSpPr>
          <a:xfrm>
            <a:off x="3286080" y="4924440"/>
            <a:ext cx="4038480" cy="654120"/>
            <a:chOff x="3286080" y="4924440"/>
            <a:chExt cx="4038480" cy="654120"/>
          </a:xfrm>
        </p:grpSpPr>
        <p:sp>
          <p:nvSpPr>
            <p:cNvPr id="149" name="AutoShape 12"/>
            <p:cNvSpPr/>
            <p:nvPr/>
          </p:nvSpPr>
          <p:spPr>
            <a:xfrm>
              <a:off x="3854160" y="4924440"/>
              <a:ext cx="2840040" cy="506520"/>
            </a:xfrm>
            <a:prstGeom prst="roundRect">
              <a:avLst>
                <a:gd name="adj" fmla="val 16667"/>
              </a:avLst>
            </a:prstGeom>
            <a:solidFill>
              <a:srgbClr val="bcff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ontent Placeholder 2"/>
            <p:cNvSpPr/>
            <p:nvPr/>
          </p:nvSpPr>
          <p:spPr>
            <a:xfrm>
              <a:off x="3286080" y="4924440"/>
              <a:ext cx="4038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8"/>
                  </a:solidFill>
                  <a:latin typeface="Calibri"/>
                </a:rPr>
                <a:t>Feder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8"/>
                  </a:solidFill>
                  <a:latin typeface="Calibri"/>
                </a:rPr>
                <a:t>Mandates Sustain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0088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3286080" y="5514840"/>
            <a:ext cx="4038480" cy="654120"/>
            <a:chOff x="3286080" y="5514840"/>
            <a:chExt cx="4038480" cy="654120"/>
          </a:xfrm>
        </p:grpSpPr>
        <p:sp>
          <p:nvSpPr>
            <p:cNvPr id="152" name="AutoShape 15"/>
            <p:cNvSpPr/>
            <p:nvPr/>
          </p:nvSpPr>
          <p:spPr>
            <a:xfrm>
              <a:off x="3854160" y="5514840"/>
              <a:ext cx="2840040" cy="506520"/>
            </a:xfrm>
            <a:prstGeom prst="roundRect">
              <a:avLst>
                <a:gd name="adj" fmla="val 16667"/>
              </a:avLst>
            </a:prstGeom>
            <a:solidFill>
              <a:srgbClr val="96b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ontent Placeholder 2"/>
            <p:cNvSpPr/>
            <p:nvPr/>
          </p:nvSpPr>
          <p:spPr>
            <a:xfrm>
              <a:off x="3286080" y="5514840"/>
              <a:ext cx="4038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8"/>
                  </a:solidFill>
                  <a:latin typeface="Calibri"/>
                </a:rPr>
                <a:t>Car-dependenc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8"/>
                  </a:solidFill>
                  <a:latin typeface="Calibri"/>
                </a:rPr>
                <a:t>Persistent “Brown Cloud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0088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3276720" y="6105600"/>
            <a:ext cx="4038480" cy="676080"/>
            <a:chOff x="3276720" y="6105600"/>
            <a:chExt cx="4038480" cy="676080"/>
          </a:xfrm>
        </p:grpSpPr>
        <p:sp>
          <p:nvSpPr>
            <p:cNvPr id="155" name="AutoShape 18"/>
            <p:cNvSpPr/>
            <p:nvPr/>
          </p:nvSpPr>
          <p:spPr>
            <a:xfrm>
              <a:off x="3857760" y="6105600"/>
              <a:ext cx="2840040" cy="506520"/>
            </a:xfrm>
            <a:prstGeom prst="roundRect">
              <a:avLst>
                <a:gd name="adj" fmla="val 16667"/>
              </a:avLst>
            </a:prstGeom>
            <a:solidFill>
              <a:srgbClr val="fff7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Content Placeholder 2"/>
            <p:cNvSpPr/>
            <p:nvPr/>
          </p:nvSpPr>
          <p:spPr>
            <a:xfrm>
              <a:off x="3276720" y="6127920"/>
              <a:ext cx="40384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8"/>
                  </a:solidFill>
                  <a:latin typeface="Calibri"/>
                </a:rPr>
                <a:t>Unique, Vibrant Vill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8"/>
                  </a:solidFill>
                  <a:latin typeface="Calibri"/>
                </a:rPr>
                <a:t>Cores, Inter-village T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0088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5"/>
          <p:cNvSpPr/>
          <p:nvPr/>
        </p:nvSpPr>
        <p:spPr>
          <a:xfrm>
            <a:off x="6894360" y="4386240"/>
            <a:ext cx="169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905520" y="4979880"/>
            <a:ext cx="169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6905520" y="5560920"/>
            <a:ext cx="1692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6918480" y="6122880"/>
            <a:ext cx="16920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ban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4343400" y="3809880"/>
            <a:ext cx="16923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858000" y="3809880"/>
            <a:ext cx="16923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762120" y="4267080"/>
            <a:ext cx="16920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0" y="28195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5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8"/>
                </a:solidFill>
                <a:latin typeface="Calibri"/>
              </a:rPr>
              <a:t>Between now and 2050: what needs to be don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50"/>
              </a:spcBef>
              <a:buClr>
                <a:srgbClr val="00009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Co-created: Developed with stakeholders, shared responsibility for achieving the 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5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8"/>
                </a:solidFill>
                <a:latin typeface="Calibri"/>
              </a:rPr>
              <a:t>Sets benchmarks: 2050 is a long way away, how do we know we are on the right tr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5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8"/>
                </a:solidFill>
                <a:latin typeface="Calibri"/>
              </a:rPr>
              <a:t>Galvanize support: Phoenix has a plan to make the city the best it could possibly b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349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  <a:ea typeface="Osaka"/>
              </a:rPr>
              <a:t>Based on what citizens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349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  <a:ea typeface="Osaka"/>
              </a:rPr>
              <a:t>Considering future generations and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349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  <a:ea typeface="Osaka"/>
              </a:rPr>
              <a:t>Anticipating and avoiding undesirable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26800">
              <a:lnSpc>
                <a:spcPct val="90000"/>
              </a:lnSpc>
              <a:spcBef>
                <a:spcPts val="1349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  <a:ea typeface="Osaka"/>
              </a:rPr>
              <a:t>Iterations for reflection and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304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Transition Strategies for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14479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4640" indent="-404640">
              <a:lnSpc>
                <a:spcPct val="100000"/>
              </a:lnSpc>
              <a:spcBef>
                <a:spcPts val="2401"/>
              </a:spcBef>
              <a:buClr>
                <a:srgbClr val="000088"/>
              </a:buClr>
              <a:buSzPct val="120000"/>
              <a:buFont typeface="Calibri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Cores front pg"/>
          <p:cNvPicPr/>
          <p:nvPr/>
        </p:nvPicPr>
        <p:blipFill>
          <a:blip r:embed="rId1"/>
          <a:stretch/>
        </p:blipFill>
        <p:spPr>
          <a:xfrm>
            <a:off x="6172200" y="1905120"/>
            <a:ext cx="282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80880" y="304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Opportunities Offered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37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Anticipatory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04920" y="1905120"/>
            <a:ext cx="883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4640" indent="-404640">
              <a:lnSpc>
                <a:spcPct val="100000"/>
              </a:lnSpc>
              <a:spcBef>
                <a:spcPts val="2100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A shared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65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8"/>
                </a:solidFill>
                <a:latin typeface="Calibri"/>
                <a:ea typeface="Osaka"/>
              </a:rPr>
              <a:t>For interdepartmental or intergovernmental co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65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8"/>
                </a:solidFill>
                <a:latin typeface="Calibri"/>
                <a:ea typeface="Osaka"/>
              </a:rPr>
              <a:t>That the public can understand and be a part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0000"/>
              </a:lnSpc>
              <a:spcBef>
                <a:spcPts val="3674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Future-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  <a:ea typeface="Osaka"/>
              </a:rPr>
              <a:t>Short-term planning explicitly linked to long-term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00000"/>
              </a:lnSpc>
              <a:spcBef>
                <a:spcPts val="3674"/>
              </a:spcBef>
              <a:buClr>
                <a:srgbClr val="00008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Addresses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8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  <a:ea typeface="Osaka"/>
              </a:rPr>
              <a:t>Grounding “big picture” goals in current policies an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Challenges and Opportunities for Cities in the 21st Century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04920" y="1828800"/>
            <a:ext cx="42670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Budget constraints can catalyze creative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Less resources for the government can encourage community-wide responsibility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Lack of development presents opportunity to examine practices and plan for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88"/>
                </a:solidFill>
                <a:latin typeface="Calibri"/>
              </a:rPr>
              <a:t>Growing environmental concerns cause need to address the impact city has on future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21</a:t>
            </a:r>
            <a:r>
              <a:rPr b="1" lang="en-US" sz="3600" spc="-1" strike="noStrike" baseline="30000">
                <a:solidFill>
                  <a:srgbClr val="000088"/>
                </a:solidFill>
                <a:latin typeface="Calibri"/>
              </a:rPr>
              <a:t>st</a:t>
            </a: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 Century Cities Seizing Opportunity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pic>
        <p:nvPicPr>
          <p:cNvPr id="62" name="Picture 2" descr="plaNYC - A Greener, Greater New Y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19320"/>
            <a:ext cx="2768400" cy="2544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152280" y="4191120"/>
            <a:ext cx="58676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YC: Goals for 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up all contaminated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ve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est air of any big city in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at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mate Chan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duce emissions by more than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962520" y="15238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ability Transition Plan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-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reated wit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nvironmental Justice Youth Summit, Hunter College "/>
          <p:cNvPicPr/>
          <p:nvPr/>
        </p:nvPicPr>
        <p:blipFill>
          <a:blip r:embed="rId3"/>
          <a:stretch/>
        </p:blipFill>
        <p:spPr>
          <a:xfrm>
            <a:off x="4952880" y="3429000"/>
            <a:ext cx="364356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Transitions Are Happening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1600200"/>
            <a:ext cx="8153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New York, Detroit, Charlott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Innovations in Phoenix – Visionary and tang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New partnerships across sectors an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052720" cy="101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666880" y="4191120"/>
            <a:ext cx="253224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7473960" y="5105520"/>
            <a:ext cx="1338120" cy="8906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GreenPhoenix.jpg"/>
          <p:cNvPicPr/>
          <p:nvPr/>
        </p:nvPicPr>
        <p:blipFill>
          <a:blip r:embed="rId4"/>
          <a:stretch/>
        </p:blipFill>
        <p:spPr>
          <a:xfrm>
            <a:off x="5486400" y="4267080"/>
            <a:ext cx="1889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Sustainable Anticipatory Governance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grpSp>
        <p:nvGrpSpPr>
          <p:cNvPr id="73" name="Group 26"/>
          <p:cNvGrpSpPr/>
          <p:nvPr/>
        </p:nvGrpSpPr>
        <p:grpSpPr>
          <a:xfrm>
            <a:off x="152280" y="2286000"/>
            <a:ext cx="2235240" cy="1778040"/>
            <a:chOff x="152280" y="2286000"/>
            <a:chExt cx="2235240" cy="1778040"/>
          </a:xfrm>
        </p:grpSpPr>
        <p:sp>
          <p:nvSpPr>
            <p:cNvPr id="74" name="Rectangle 4"/>
            <p:cNvSpPr/>
            <p:nvPr/>
          </p:nvSpPr>
          <p:spPr>
            <a:xfrm>
              <a:off x="461880" y="3238560"/>
              <a:ext cx="1925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urrent Stat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37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129564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25"/>
          <p:cNvGrpSpPr/>
          <p:nvPr/>
        </p:nvGrpSpPr>
        <p:grpSpPr>
          <a:xfrm>
            <a:off x="2391840" y="3038400"/>
            <a:ext cx="6323760" cy="2524320"/>
            <a:chOff x="2391840" y="3038400"/>
            <a:chExt cx="6323760" cy="2524320"/>
          </a:xfrm>
        </p:grpSpPr>
        <p:sp>
          <p:nvSpPr>
            <p:cNvPr id="77" name="Rectangle 4"/>
            <p:cNvSpPr/>
            <p:nvPr/>
          </p:nvSpPr>
          <p:spPr>
            <a:xfrm>
              <a:off x="6534000" y="3038400"/>
              <a:ext cx="2181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Vis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6432480" y="3130560"/>
              <a:ext cx="2181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Vis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6321240" y="3238560"/>
              <a:ext cx="2181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Vis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Straight Arrow Connector 16"/>
            <p:cNvCxnSpPr>
              <a:stCxn id="74" idx="3"/>
              <a:endCxn id="79" idx="1"/>
            </p:cNvCxnSpPr>
            <p:nvPr/>
          </p:nvCxnSpPr>
          <p:spPr>
            <a:xfrm>
              <a:off x="2391840" y="3654000"/>
              <a:ext cx="3923640" cy="2520"/>
            </a:xfrm>
            <a:prstGeom prst="straightConnector1">
              <a:avLst/>
            </a:prstGeom>
            <a:ln w="50760">
              <a:solidFill>
                <a:srgbClr val="f79646"/>
              </a:solidFill>
              <a:miter/>
              <a:tailEnd len="med" type="triangle" w="med"/>
            </a:ln>
          </p:spPr>
        </p:cxnSp>
        <p:pic>
          <p:nvPicPr>
            <p:cNvPr id="81" name="Picture 9" descr=""/>
            <p:cNvPicPr/>
            <p:nvPr/>
          </p:nvPicPr>
          <p:blipFill>
            <a:blip r:embed="rId2"/>
            <a:stretch/>
          </p:blipFill>
          <p:spPr>
            <a:xfrm>
              <a:off x="7772400" y="4191120"/>
              <a:ext cx="91296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27"/>
          <p:cNvGrpSpPr/>
          <p:nvPr/>
        </p:nvGrpSpPr>
        <p:grpSpPr>
          <a:xfrm>
            <a:off x="3782880" y="1752480"/>
            <a:ext cx="5050800" cy="1905120"/>
            <a:chOff x="3782880" y="1752480"/>
            <a:chExt cx="5050800" cy="1905120"/>
          </a:xfrm>
        </p:grpSpPr>
        <p:sp>
          <p:nvSpPr>
            <p:cNvPr id="83" name="Rectangle 4"/>
            <p:cNvSpPr/>
            <p:nvPr/>
          </p:nvSpPr>
          <p:spPr>
            <a:xfrm>
              <a:off x="6496560" y="1752480"/>
              <a:ext cx="23371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Future Scenari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6372720" y="1854360"/>
              <a:ext cx="23371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Future Scenari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6242760" y="1963800"/>
              <a:ext cx="23371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Future Scenari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oe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Curved Connector 17"/>
            <p:cNvCxnSpPr>
              <a:endCxn id="85" idx="1"/>
            </p:cNvCxnSpPr>
            <p:nvPr/>
          </p:nvCxnSpPr>
          <p:spPr>
            <a:xfrm flipV="1">
              <a:off x="3782880" y="2379240"/>
              <a:ext cx="2455200" cy="1278720"/>
            </a:xfrm>
            <a:prstGeom prst="curvedConnector5">
              <a:avLst>
                <a:gd name="adj1" fmla="val 49992"/>
                <a:gd name="adj2" fmla="val 49985"/>
                <a:gd name="adj3" fmla="val 49992"/>
              </a:avLst>
            </a:prstGeom>
            <a:ln w="50760">
              <a:solidFill>
                <a:srgbClr val="f79646"/>
              </a:solidFill>
              <a:miter/>
              <a:tailEnd len="med" type="triangle" w="med"/>
            </a:ln>
          </p:spPr>
        </p:cxnSp>
        <p:pic>
          <p:nvPicPr>
            <p:cNvPr id="87" name="Picture 19" descr=""/>
            <p:cNvPicPr/>
            <p:nvPr/>
          </p:nvPicPr>
          <p:blipFill>
            <a:blip r:embed="rId3"/>
            <a:stretch/>
          </p:blipFill>
          <p:spPr>
            <a:xfrm>
              <a:off x="4419720" y="2057400"/>
              <a:ext cx="112212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3"/>
          <p:cNvGrpSpPr/>
          <p:nvPr/>
        </p:nvGrpSpPr>
        <p:grpSpPr>
          <a:xfrm>
            <a:off x="1424880" y="4068360"/>
            <a:ext cx="5988240" cy="2183040"/>
            <a:chOff x="1424880" y="4068360"/>
            <a:chExt cx="5988240" cy="2183040"/>
          </a:xfrm>
        </p:grpSpPr>
        <p:cxnSp>
          <p:nvCxnSpPr>
            <p:cNvPr id="89" name="AutoShape 7"/>
            <p:cNvCxnSpPr>
              <a:stCxn id="79" idx="2"/>
              <a:endCxn id="74" idx="2"/>
            </p:cNvCxnSpPr>
            <p:nvPr/>
          </p:nvCxnSpPr>
          <p:spPr>
            <a:xfrm rot="5400000">
              <a:off x="4417200" y="1076040"/>
              <a:ext cx="3960" cy="5988600"/>
            </a:xfrm>
            <a:prstGeom prst="bentConnector3">
              <a:avLst>
                <a:gd name="adj1" fmla="val 21700000"/>
              </a:avLst>
            </a:prstGeom>
            <a:ln w="50760">
              <a:solidFill>
                <a:srgbClr val="f79646"/>
              </a:solidFill>
              <a:round/>
              <a:tailEnd len="med" type="triangle" w="med"/>
            </a:ln>
          </p:spPr>
        </p:cxnSp>
        <p:sp>
          <p:nvSpPr>
            <p:cNvPr id="90" name="Rectangle 7"/>
            <p:cNvSpPr/>
            <p:nvPr/>
          </p:nvSpPr>
          <p:spPr>
            <a:xfrm>
              <a:off x="2567160" y="4206960"/>
              <a:ext cx="31615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Development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2464200" y="4300560"/>
              <a:ext cx="31615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Development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2369880" y="4398840"/>
              <a:ext cx="3137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  </a:t>
              </a: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Transition   Strategie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0" descr=""/>
            <p:cNvPicPr/>
            <p:nvPr/>
          </p:nvPicPr>
          <p:blipFill>
            <a:blip r:embed="rId4"/>
            <a:stretch/>
          </p:blipFill>
          <p:spPr>
            <a:xfrm>
              <a:off x="2362320" y="5410080"/>
              <a:ext cx="122076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1" descr=""/>
            <p:cNvPicPr/>
            <p:nvPr/>
          </p:nvPicPr>
          <p:blipFill>
            <a:blip r:embed="rId5"/>
            <a:stretch/>
          </p:blipFill>
          <p:spPr>
            <a:xfrm>
              <a:off x="4648320" y="5410080"/>
              <a:ext cx="112212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28"/>
          <p:cNvGrpSpPr/>
          <p:nvPr/>
        </p:nvGrpSpPr>
        <p:grpSpPr>
          <a:xfrm>
            <a:off x="2477520" y="2743200"/>
            <a:ext cx="1788480" cy="1109520"/>
            <a:chOff x="2477520" y="2743200"/>
            <a:chExt cx="1788480" cy="1109520"/>
          </a:xfrm>
        </p:grpSpPr>
        <p:sp>
          <p:nvSpPr>
            <p:cNvPr id="96" name="Oval 30"/>
            <p:cNvSpPr/>
            <p:nvPr/>
          </p:nvSpPr>
          <p:spPr>
            <a:xfrm>
              <a:off x="3701880" y="3438360"/>
              <a:ext cx="390600" cy="41436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60"/>
            <p:cNvSpPr/>
            <p:nvPr/>
          </p:nvSpPr>
          <p:spPr>
            <a:xfrm>
              <a:off x="2477520" y="2743200"/>
              <a:ext cx="178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0514"/>
                  </a:solidFill>
                  <a:latin typeface="Calibri"/>
                  <a:ea typeface="ＭＳ Ｐゴシック"/>
                </a:rPr>
                <a:t>Interven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0514"/>
                  </a:solidFill>
                  <a:latin typeface="Calibri"/>
                  <a:ea typeface="ＭＳ Ｐゴシック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A Guiding Framework for Change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1487520"/>
            <a:ext cx="8153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spcBef>
                <a:spcPts val="1749"/>
              </a:spcBef>
              <a:buClr>
                <a:srgbClr val="000088"/>
              </a:buClr>
              <a:buFont typeface="Calibri"/>
              <a:buAutoNum type="arabicPeriod"/>
              <a:tabLst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Change needs reality </a:t>
            </a: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88"/>
                </a:solidFill>
                <a:latin typeface="Calibri"/>
              </a:rPr>
              <a:t>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749"/>
              </a:spcBef>
              <a:buClr>
                <a:srgbClr val="000088"/>
              </a:buClr>
              <a:buFont typeface="Calibri"/>
              <a:buAutoNum type="arabicPeriod"/>
              <a:tabLst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Change needs direction </a:t>
            </a: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88"/>
                </a:solidFill>
                <a:latin typeface="Calibri"/>
              </a:rPr>
              <a:t>Sustainability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749"/>
              </a:spcBef>
              <a:buClr>
                <a:srgbClr val="000088"/>
              </a:buClr>
              <a:buFont typeface="Calibri"/>
              <a:buAutoNum type="arabicPeriod"/>
              <a:tabLst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Change needs anticipation </a:t>
            </a: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88"/>
                </a:solidFill>
                <a:latin typeface="Calibri"/>
              </a:rPr>
              <a:t>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749"/>
              </a:spcBef>
              <a:buClr>
                <a:srgbClr val="000088"/>
              </a:buClr>
              <a:buFont typeface="Calibri"/>
              <a:buAutoNum type="arabicPeriod"/>
              <a:tabLst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Change needs strategies </a:t>
            </a:r>
            <a:r>
              <a:rPr b="0" lang="en-US" sz="2800" spc="-1" strike="noStrike">
                <a:solidFill>
                  <a:srgbClr val="000088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88"/>
                </a:solidFill>
                <a:latin typeface="Calibri"/>
              </a:rPr>
              <a:t>Transi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0880" y="304920"/>
            <a:ext cx="853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Stakeholder Engageme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Anticipatory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5800" y="2021040"/>
            <a:ext cx="815328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8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From consultative/extractive to interactive public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62"/>
              </a:spcBef>
              <a:buClr>
                <a:srgbClr val="00008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Different types and intensities of public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62"/>
              </a:spcBef>
              <a:buClr>
                <a:srgbClr val="00008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Benefi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Increased ownership of issues and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Public acceptance of policies negotiated before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62"/>
              </a:spcBef>
              <a:buClr>
                <a:srgbClr val="0000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88"/>
                </a:solidFill>
                <a:latin typeface="Calibri"/>
              </a:rPr>
              <a:t>Barriers 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00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8"/>
                </a:solidFill>
                <a:latin typeface="Calibri"/>
                <a:ea typeface="Osaka"/>
              </a:rPr>
              <a:t>cost of engagement, time,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250"/>
              </a:spcBef>
              <a:buClr>
                <a:srgbClr val="0000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City of Phoenix’ Transition Pathway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-228600" y="2362320"/>
            <a:ext cx="4876920" cy="28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8"/>
                </a:solidFill>
                <a:latin typeface="Calibri"/>
              </a:rPr>
              <a:t>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8"/>
                </a:solidFill>
                <a:latin typeface="Calibri"/>
              </a:rPr>
              <a:t>Sustainability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4916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8"/>
                </a:solidFill>
                <a:latin typeface="Calibri"/>
              </a:rPr>
              <a:t>Tackling 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_MG_9833.jpg"/>
          <p:cNvPicPr/>
          <p:nvPr/>
        </p:nvPicPr>
        <p:blipFill>
          <a:blip r:embed="rId1"/>
          <a:stretch/>
        </p:blipFill>
        <p:spPr>
          <a:xfrm>
            <a:off x="4800600" y="259236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8"/>
                </a:solidFill>
                <a:latin typeface="Calibri"/>
              </a:rPr>
              <a:t>Anticipatory Governance in Action</a:t>
            </a:r>
            <a:endParaRPr b="0" lang="en-US" sz="3600" spc="-1" strike="noStrike">
              <a:solidFill>
                <a:srgbClr val="000088"/>
              </a:solidFill>
              <a:latin typeface="Calibri"/>
            </a:endParaRPr>
          </a:p>
        </p:txBody>
      </p:sp>
      <p:grpSp>
        <p:nvGrpSpPr>
          <p:cNvPr id="106" name="Group 26"/>
          <p:cNvGrpSpPr/>
          <p:nvPr/>
        </p:nvGrpSpPr>
        <p:grpSpPr>
          <a:xfrm>
            <a:off x="152280" y="2286000"/>
            <a:ext cx="2235240" cy="1778040"/>
            <a:chOff x="152280" y="2286000"/>
            <a:chExt cx="2235240" cy="1778040"/>
          </a:xfrm>
        </p:grpSpPr>
        <p:sp>
          <p:nvSpPr>
            <p:cNvPr id="107" name="Rectangle 4"/>
            <p:cNvSpPr/>
            <p:nvPr/>
          </p:nvSpPr>
          <p:spPr>
            <a:xfrm>
              <a:off x="461880" y="3238560"/>
              <a:ext cx="1925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urrent Stat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37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129564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25"/>
          <p:cNvGrpSpPr/>
          <p:nvPr/>
        </p:nvGrpSpPr>
        <p:grpSpPr>
          <a:xfrm>
            <a:off x="2391840" y="3038400"/>
            <a:ext cx="6323760" cy="2524320"/>
            <a:chOff x="2391840" y="3038400"/>
            <a:chExt cx="6323760" cy="2524320"/>
          </a:xfrm>
        </p:grpSpPr>
        <p:sp>
          <p:nvSpPr>
            <p:cNvPr id="110" name="Rectangle 4"/>
            <p:cNvSpPr/>
            <p:nvPr/>
          </p:nvSpPr>
          <p:spPr>
            <a:xfrm>
              <a:off x="6534000" y="3038400"/>
              <a:ext cx="2181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Vis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6432480" y="3130560"/>
              <a:ext cx="2181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Vis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"/>
            <p:cNvSpPr/>
            <p:nvPr/>
          </p:nvSpPr>
          <p:spPr>
            <a:xfrm>
              <a:off x="6321240" y="3238560"/>
              <a:ext cx="2181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Vis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Straight Arrow Connector 16"/>
            <p:cNvCxnSpPr>
              <a:stCxn id="107" idx="3"/>
              <a:endCxn id="112" idx="1"/>
            </p:cNvCxnSpPr>
            <p:nvPr/>
          </p:nvCxnSpPr>
          <p:spPr>
            <a:xfrm>
              <a:off x="2391840" y="3654000"/>
              <a:ext cx="3923640" cy="2520"/>
            </a:xfrm>
            <a:prstGeom prst="straightConnector1">
              <a:avLst/>
            </a:prstGeom>
            <a:ln w="50760">
              <a:solidFill>
                <a:srgbClr val="f79646"/>
              </a:solidFill>
              <a:miter/>
              <a:tailEnd len="med" type="triangle" w="med"/>
            </a:ln>
          </p:spPr>
        </p:cxnSp>
        <p:pic>
          <p:nvPicPr>
            <p:cNvPr id="114" name="Picture 9" descr=""/>
            <p:cNvPicPr/>
            <p:nvPr/>
          </p:nvPicPr>
          <p:blipFill>
            <a:blip r:embed="rId2"/>
            <a:stretch/>
          </p:blipFill>
          <p:spPr>
            <a:xfrm>
              <a:off x="7772400" y="4191120"/>
              <a:ext cx="91296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27"/>
          <p:cNvGrpSpPr/>
          <p:nvPr/>
        </p:nvGrpSpPr>
        <p:grpSpPr>
          <a:xfrm>
            <a:off x="3782880" y="1752480"/>
            <a:ext cx="5050800" cy="1905120"/>
            <a:chOff x="3782880" y="1752480"/>
            <a:chExt cx="5050800" cy="1905120"/>
          </a:xfrm>
        </p:grpSpPr>
        <p:sp>
          <p:nvSpPr>
            <p:cNvPr id="116" name="Rectangle 4"/>
            <p:cNvSpPr/>
            <p:nvPr/>
          </p:nvSpPr>
          <p:spPr>
            <a:xfrm>
              <a:off x="6496560" y="1752480"/>
              <a:ext cx="23371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Future Scenari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6372720" y="1854360"/>
              <a:ext cx="23371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Future Scenari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6242760" y="1963800"/>
              <a:ext cx="23371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Future Scenari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City of Phoe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Curved Connector 17"/>
            <p:cNvCxnSpPr>
              <a:endCxn id="118" idx="1"/>
            </p:cNvCxnSpPr>
            <p:nvPr/>
          </p:nvCxnSpPr>
          <p:spPr>
            <a:xfrm flipV="1">
              <a:off x="3782880" y="2379240"/>
              <a:ext cx="2455200" cy="1278720"/>
            </a:xfrm>
            <a:prstGeom prst="curvedConnector5">
              <a:avLst>
                <a:gd name="adj1" fmla="val 49992"/>
                <a:gd name="adj2" fmla="val 49985"/>
                <a:gd name="adj3" fmla="val 49992"/>
              </a:avLst>
            </a:prstGeom>
            <a:ln w="50760">
              <a:solidFill>
                <a:srgbClr val="f79646"/>
              </a:solidFill>
              <a:miter/>
              <a:tailEnd len="med" type="triangle" w="med"/>
            </a:ln>
          </p:spPr>
        </p:cxnSp>
        <p:pic>
          <p:nvPicPr>
            <p:cNvPr id="120" name="Picture 19" descr=""/>
            <p:cNvPicPr/>
            <p:nvPr/>
          </p:nvPicPr>
          <p:blipFill>
            <a:blip r:embed="rId3"/>
            <a:stretch/>
          </p:blipFill>
          <p:spPr>
            <a:xfrm>
              <a:off x="4419720" y="2057400"/>
              <a:ext cx="112212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23"/>
          <p:cNvGrpSpPr/>
          <p:nvPr/>
        </p:nvGrpSpPr>
        <p:grpSpPr>
          <a:xfrm>
            <a:off x="1424880" y="4068360"/>
            <a:ext cx="5988240" cy="2183040"/>
            <a:chOff x="1424880" y="4068360"/>
            <a:chExt cx="5988240" cy="2183040"/>
          </a:xfrm>
        </p:grpSpPr>
        <p:cxnSp>
          <p:nvCxnSpPr>
            <p:cNvPr id="122" name="AutoShape 7"/>
            <p:cNvCxnSpPr>
              <a:stCxn id="112" idx="2"/>
              <a:endCxn id="107" idx="2"/>
            </p:cNvCxnSpPr>
            <p:nvPr/>
          </p:nvCxnSpPr>
          <p:spPr>
            <a:xfrm rot="5400000">
              <a:off x="4417200" y="1076040"/>
              <a:ext cx="3960" cy="5988600"/>
            </a:xfrm>
            <a:prstGeom prst="bentConnector3">
              <a:avLst>
                <a:gd name="adj1" fmla="val 21700000"/>
              </a:avLst>
            </a:prstGeom>
            <a:ln w="50760">
              <a:solidFill>
                <a:srgbClr val="f79646"/>
              </a:solidFill>
              <a:round/>
              <a:tailEnd len="med" type="triangle" w="med"/>
            </a:ln>
          </p:spPr>
        </p:cxnSp>
        <p:sp>
          <p:nvSpPr>
            <p:cNvPr id="123" name="Rectangle 7"/>
            <p:cNvSpPr/>
            <p:nvPr/>
          </p:nvSpPr>
          <p:spPr>
            <a:xfrm>
              <a:off x="2567160" y="4206960"/>
              <a:ext cx="31615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Development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2464200" y="4300560"/>
              <a:ext cx="31615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Development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2369880" y="4398840"/>
              <a:ext cx="3137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0"/>
              </a:solidFill>
              <a:miter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Sustain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  </a:t>
              </a:r>
              <a:r>
                <a:rPr b="0" lang="en-US" sz="2400" spc="-1" strike="noStrike">
                  <a:solidFill>
                    <a:srgbClr val="000088"/>
                  </a:solidFill>
                  <a:latin typeface="Calibri"/>
                  <a:ea typeface="ＭＳ Ｐゴシック"/>
                </a:rPr>
                <a:t>Transition   Strategie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"/>
            <p:cNvPicPr/>
            <p:nvPr/>
          </p:nvPicPr>
          <p:blipFill>
            <a:blip r:embed="rId4"/>
            <a:stretch/>
          </p:blipFill>
          <p:spPr>
            <a:xfrm>
              <a:off x="2362320" y="5410080"/>
              <a:ext cx="122076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"/>
            <p:cNvPicPr/>
            <p:nvPr/>
          </p:nvPicPr>
          <p:blipFill>
            <a:blip r:embed="rId5"/>
            <a:stretch/>
          </p:blipFill>
          <p:spPr>
            <a:xfrm>
              <a:off x="4648320" y="5410080"/>
              <a:ext cx="1122120" cy="84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28"/>
          <p:cNvGrpSpPr/>
          <p:nvPr/>
        </p:nvGrpSpPr>
        <p:grpSpPr>
          <a:xfrm>
            <a:off x="2477520" y="2743200"/>
            <a:ext cx="1788480" cy="1109520"/>
            <a:chOff x="2477520" y="2743200"/>
            <a:chExt cx="1788480" cy="1109520"/>
          </a:xfrm>
        </p:grpSpPr>
        <p:sp>
          <p:nvSpPr>
            <p:cNvPr id="129" name="Oval 30"/>
            <p:cNvSpPr/>
            <p:nvPr/>
          </p:nvSpPr>
          <p:spPr>
            <a:xfrm>
              <a:off x="3701880" y="3438360"/>
              <a:ext cx="390600" cy="41436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60"/>
            <p:cNvSpPr/>
            <p:nvPr/>
          </p:nvSpPr>
          <p:spPr>
            <a:xfrm>
              <a:off x="2477520" y="2743200"/>
              <a:ext cx="178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0514"/>
                  </a:solidFill>
                  <a:latin typeface="Calibri"/>
                  <a:ea typeface="ＭＳ Ｐゴシック"/>
                </a:rPr>
                <a:t>Interven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0514"/>
                  </a:solidFill>
                  <a:latin typeface="Calibri"/>
                  <a:ea typeface="ＭＳ Ｐゴシック"/>
                </a:rPr>
                <a:t>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41:35Z</dcterms:created>
  <dc:creator>rmsmit17</dc:creator>
  <dc:description/>
  <dc:language>en-US</dc:language>
  <cp:lastModifiedBy>GIOS</cp:lastModifiedBy>
  <cp:lastPrinted>2010-04-30T16:37:30Z</cp:lastPrinted>
  <dcterms:modified xsi:type="dcterms:W3CDTF">2010-10-21T20:03:55Z</dcterms:modified>
  <cp:revision>86</cp:revision>
  <dc:subject/>
  <dc:title>Current State Analysis</dc:title>
</cp:coreProperties>
</file>