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0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actus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" name="Picture 6" descr=""/>
          <p:cNvPicPr/>
          <p:nvPr/>
        </p:nvPicPr>
        <p:blipFill>
          <a:blip r:embed="rId3"/>
          <a:stretch/>
        </p:blipFill>
        <p:spPr>
          <a:xfrm>
            <a:off x="228600" y="5891040"/>
            <a:ext cx="13716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zcommerce.com/BusAsst/Incentives/Solar+Energy+Tax+Incentives+Program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olar Products </a:t>
            </a:r>
            <a:br>
              <a:rPr sz="3600"/>
            </a:b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t </a:t>
            </a:r>
            <a:br>
              <a:rPr sz="3600"/>
            </a:b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rizona State University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onny Bentz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Big Belly’s – Small Compacters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320" y="914400"/>
            <a:ext cx="441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Cost savings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Liners and Labor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Sturdy appearance garners “respect”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Lease option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Drawbacks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Up front cost 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Deterioration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4" name="Picture 3" descr="L:\USP\Communications\photos and graphics\Compacters\solar-compactors\IMG_7748.jpg"/>
          <p:cNvPicPr/>
          <p:nvPr/>
        </p:nvPicPr>
        <p:blipFill>
          <a:blip r:embed="rId1"/>
          <a:stretch/>
        </p:blipFill>
        <p:spPr>
          <a:xfrm>
            <a:off x="6472080" y="1143000"/>
            <a:ext cx="267192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L:\USP\Communications\photos and graphics\Compacters\solar-compactors\IMG_7750.jpg"/>
          <p:cNvPicPr/>
          <p:nvPr/>
        </p:nvPicPr>
        <p:blipFill>
          <a:blip r:embed="rId2"/>
          <a:stretch/>
        </p:blipFill>
        <p:spPr>
          <a:xfrm>
            <a:off x="5543640" y="4343400"/>
            <a:ext cx="1622160" cy="243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L:\USP\Communications\photos and graphics\Compacters\solar-compactors\IMG_7751.jpg"/>
          <p:cNvPicPr/>
          <p:nvPr/>
        </p:nvPicPr>
        <p:blipFill>
          <a:blip r:embed="rId3"/>
          <a:stretch/>
        </p:blipFill>
        <p:spPr>
          <a:xfrm>
            <a:off x="4443480" y="1523880"/>
            <a:ext cx="202860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L:\USP\Communications\photos and graphics\Compacters\solar-compactors\IMG_7780.jpg"/>
          <p:cNvPicPr/>
          <p:nvPr/>
        </p:nvPicPr>
        <p:blipFill>
          <a:blip r:embed="rId4"/>
          <a:stretch/>
        </p:blipFill>
        <p:spPr>
          <a:xfrm>
            <a:off x="7165800" y="2933640"/>
            <a:ext cx="1978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9120" y="2196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Marathon Industrial Compacters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280" y="106668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nefit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10 volt versus 220 volt connec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sual Commitm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y Options (including 100% solar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igible for State of Arizona Reb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zcommerce.com/BusAsst/Incentives/Solar+Energy+Tax+Incentives+Program.ht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rawback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ure those solar pane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" name="Picture 2" descr="L:\USP\Communications\photos and graphics\Compacters\solar-compactors\IMG_7762.jpg"/>
          <p:cNvPicPr/>
          <p:nvPr/>
        </p:nvPicPr>
        <p:blipFill>
          <a:blip r:embed="rId2"/>
          <a:stretch/>
        </p:blipFill>
        <p:spPr>
          <a:xfrm>
            <a:off x="5759280" y="2913120"/>
            <a:ext cx="3353040" cy="223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L:\USP\Communications\photos and graphics\Compacters\solar-compactors\IMG_7773.jpg"/>
          <p:cNvPicPr/>
          <p:nvPr/>
        </p:nvPicPr>
        <p:blipFill>
          <a:blip r:embed="rId3"/>
          <a:stretch/>
        </p:blipFill>
        <p:spPr>
          <a:xfrm>
            <a:off x="7653240" y="762120"/>
            <a:ext cx="1432080" cy="215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:\USP\Communications\photos and graphics\Compacters\solar-compactors\IMG_7774.jpg"/>
          <p:cNvPicPr/>
          <p:nvPr/>
        </p:nvPicPr>
        <p:blipFill>
          <a:blip r:embed="rId4"/>
          <a:stretch/>
        </p:blipFill>
        <p:spPr>
          <a:xfrm>
            <a:off x="6199200" y="5029200"/>
            <a:ext cx="29448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olar Energy Device Rebate Program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9144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ministered through Arizona Department of Commerc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ax Credit – 10% of installed pric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commend that “non-traditional products” be reviewed in advanc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bmissions must be made in advance of purchase – non-profits assign to a manufacturer, installer or financial ent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ergy savings must be “documented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Special” Projects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rimental Project – student engagem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tdoor Classroom and shaded gathering spac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ff-the-grid fans and light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nated” solar panel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019400" y="4413240"/>
            <a:ext cx="512460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534000" y="3230640"/>
            <a:ext cx="1324080" cy="1152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7858080" y="3220920"/>
            <a:ext cx="12859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7:32:35Z</dcterms:created>
  <dc:creator>Bonny Bentzin</dc:creator>
  <dc:description/>
  <dc:language>en-US</dc:language>
  <cp:lastModifiedBy>Bonny Bentzin</cp:lastModifiedBy>
  <dcterms:modified xsi:type="dcterms:W3CDTF">2010-08-10T17:36:16Z</dcterms:modified>
  <cp:revision>187</cp:revision>
  <dc:subject/>
  <dc:title>Sustainability at ASU: here – there – and everywhere</dc:title>
</cp:coreProperties>
</file>