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1E8-CEE1-4C81-AC5C-85995D15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4392-DDBD-4715-AEAF-F8FDDDB2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786-88F2-4586-93EA-684FAD2B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174-C384-4D28-B582-C9D8152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2E2-B0A2-4AF5-A1E5-CE165962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EB5-85CC-49D2-B3FE-E737E289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B13-0304-403D-B105-76B2E16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C8E-FB16-4C95-978D-696258A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EB2-E081-4130-924C-5C6DCC7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268-1621-48C9-AD3E-5271AFE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ADA-84F7-4B62-854D-F7964776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489-A554-4DFA-9464-C1FE99B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AC3-0576-4364-802A-0CFAB25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83A-AE9F-445D-AC47-9C1F668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6863-9DFB-44B2-80F6-64508B0B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TimR_CON@cox.ne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bert Solar Town H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planning for Gilbert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Rine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Gilbert banner-A"/>
          <p:cNvPicPr/>
          <p:nvPr/>
        </p:nvPicPr>
        <p:blipFill>
          <a:blip r:embed="rId1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ON Seal-AA"/>
          <p:cNvPicPr/>
          <p:nvPr/>
        </p:nvPicPr>
        <p:blipFill>
          <a:blip r:embed="rId2"/>
          <a:stretch/>
        </p:blipFill>
        <p:spPr>
          <a:xfrm>
            <a:off x="6858000" y="152280"/>
            <a:ext cx="20574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ic!  Comes from Citizens and/or Town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of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th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Gilbert banner-A"/>
          <p:cNvPicPr/>
          <p:nvPr/>
        </p:nvPicPr>
        <p:blipFill>
          <a:blip r:embed="rId1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a d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vents schedu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s and other important attend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 good d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ilbert banner-A"/>
          <p:cNvPicPr/>
          <p:nvPr/>
        </p:nvPicPr>
        <p:blipFill>
          <a:blip r:embed="rId1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News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n’s and Sponsors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Web Site and Community Calend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lbert banner-A"/>
          <p:cNvPicPr/>
          <p:nvPr/>
        </p:nvPicPr>
        <p:blipFill>
          <a:blip r:embed="rId1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n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ilbert banner-A"/>
          <p:cNvPicPr/>
          <p:nvPr/>
        </p:nvPicPr>
        <p:blipFill>
          <a:blip r:embed="rId1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Rinesmith   -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imR_CON@cox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0-503-6767 TOG – Helga Sta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Gilbert banner-A"/>
          <p:cNvPicPr/>
          <p:nvPr/>
        </p:nvPicPr>
        <p:blipFill>
          <a:blip r:embed="rId2"/>
          <a:stretch/>
        </p:blipFill>
        <p:spPr>
          <a:xfrm>
            <a:off x="2286000" y="0"/>
            <a:ext cx="43052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ON Seal-AA"/>
          <p:cNvPicPr/>
          <p:nvPr/>
        </p:nvPicPr>
        <p:blipFill>
          <a:blip r:embed="rId3"/>
          <a:stretch/>
        </p:blipFill>
        <p:spPr>
          <a:xfrm>
            <a:off x="2971800" y="1981080"/>
            <a:ext cx="2933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23:41:37Z</dcterms:created>
  <dc:creator>Timothy L Rinesmith</dc:creator>
  <dc:description/>
  <dc:language>en-US</dc:language>
  <cp:lastModifiedBy>Anne Reichman</cp:lastModifiedBy>
  <dcterms:modified xsi:type="dcterms:W3CDTF">2010-08-20T22:10:39Z</dcterms:modified>
  <cp:revision>9</cp:revision>
  <dc:subject/>
  <dc:title>Slide 1</dc:title>
</cp:coreProperties>
</file>