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5.png" ContentType="image/png"/>
  <Override PartName="/ppt/media/image5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1291-76E9-494C-BE31-5129103377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ahoma"/>
                <a:ea typeface="Tahoma"/>
              </a:rPr>
              <a:t>23 GGP Measures have been successfully completed Resulting in an overall improved regional environmen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41A1-3944-446F-9949-66C5A0F1279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ahoma"/>
                <a:ea typeface="Tahoma"/>
              </a:rPr>
              <a:t>34 GGP Measures have been successfully launched Resulting in an overall improved regional environmen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FDD3-6271-48C4-AF97-0D55BAEA355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ACAB-5EF8-4FFF-B59F-55E0D32F4DA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ten county departments involved in the initial development and implem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F2BB-F725-4545-83A5-ADF408BB62C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AA3-FDA4-46C5-B01B-1173F397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55C-6E2A-4E6E-BF71-1962E9C6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06A-91C0-40FE-9525-A2EABFE5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A0F-9D13-44D6-A50D-3689DD5E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5AD1-FA45-4F30-B2F9-130DE65E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1AD4-4531-40B9-A9AE-940B79C4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5D23-8BF9-4CB5-BD51-0B507FA9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04D1-EF52-4EF5-830E-4868FA25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C44F-6974-43B7-8318-6DA24B66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6195-0F3C-41CF-923F-ED8A47D1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32D1-9E92-4E17-867D-08CF54AB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97C-2D08-4B37-B806-C227C28F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B475-3CE9-44D7-8D57-45589363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B210-178A-4038-965F-FD52B67E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3E66-E1E0-4134-8228-79EB6FBE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DD69-9971-4836-92D9-86200F65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67B7-8417-425A-946C-AB1C2183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510-4C6E-48D7-B9CA-C2E460EA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614-6F17-48AF-B713-8AA59853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671-5C1F-4027-9817-8266145A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D3E-8399-49AC-A5AE-850A1FE8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E40-3425-48B8-9377-052800D1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D5C-D5AD-4B29-8EA6-04982E8B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801-F4BB-43F1-958C-B3D29A5A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10DA-D469-4475-B58B-4A133A26FA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ED8-92F1-4AA7-8DE5-5DC5A5429BB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0"/>
          <p:cNvGrpSpPr/>
          <p:nvPr/>
        </p:nvGrpSpPr>
        <p:grpSpPr>
          <a:xfrm>
            <a:off x="380880" y="123840"/>
            <a:ext cx="8763120" cy="2393280"/>
            <a:chOff x="380880" y="123840"/>
            <a:chExt cx="8763120" cy="2393280"/>
          </a:xfrm>
        </p:grpSpPr>
        <p:pic>
          <p:nvPicPr>
            <p:cNvPr id="98" name="Picture 2" descr=""/>
            <p:cNvPicPr/>
            <p:nvPr/>
          </p:nvPicPr>
          <p:blipFill>
            <a:blip r:embed="rId1"/>
            <a:stretch/>
          </p:blipFill>
          <p:spPr>
            <a:xfrm>
              <a:off x="990360" y="123840"/>
              <a:ext cx="815364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9"/>
            <p:cNvSpPr/>
            <p:nvPr/>
          </p:nvSpPr>
          <p:spPr>
            <a:xfrm>
              <a:off x="380880" y="228600"/>
              <a:ext cx="7925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8000"/>
                  </a:solidFill>
                  <a:latin typeface="Garamond"/>
                  <a:ea typeface="Tahoma"/>
                </a:rPr>
                <a:t>Maricopa County</a:t>
              </a:r>
              <a:endParaRPr b="0" lang="en-US" sz="7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00" name="Picture 6" descr="Green County Seal_3.jpg"/>
          <p:cNvPicPr/>
          <p:nvPr/>
        </p:nvPicPr>
        <p:blipFill>
          <a:blip r:embed="rId2"/>
          <a:stretch/>
        </p:blipFill>
        <p:spPr>
          <a:xfrm>
            <a:off x="2514600" y="1981080"/>
            <a:ext cx="3900600" cy="3949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86728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000"/>
            </a:b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Wednesday, August 18, 2010</a:t>
            </a:r>
            <a:br>
              <a:rPr sz="1400"/>
            </a:b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Jonce Walker, LEED AP</a:t>
            </a:r>
            <a:br>
              <a:rPr sz="1400"/>
            </a:b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Maricopa County Sustainability Manager </a:t>
            </a:r>
            <a:br>
              <a:rPr sz="1800"/>
            </a:b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 rot="16200000">
            <a:off x="-3085920" y="3085920"/>
            <a:ext cx="6858000" cy="685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dvancing Regional Sustainability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5"/>
          <p:cNvGrpSpPr/>
          <p:nvPr/>
        </p:nvGrpSpPr>
        <p:grpSpPr>
          <a:xfrm>
            <a:off x="4419720" y="5791320"/>
            <a:ext cx="4724280" cy="1066680"/>
            <a:chOff x="4419720" y="5791320"/>
            <a:chExt cx="4724280" cy="1066680"/>
          </a:xfrm>
        </p:grpSpPr>
        <p:pic>
          <p:nvPicPr>
            <p:cNvPr id="162" name="Picture 6" descr=""/>
            <p:cNvPicPr/>
            <p:nvPr/>
          </p:nvPicPr>
          <p:blipFill>
            <a:blip r:embed="rId1"/>
            <a:stretch/>
          </p:blipFill>
          <p:spPr>
            <a:xfrm>
              <a:off x="5122800" y="5791320"/>
              <a:ext cx="402120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7" descr=""/>
            <p:cNvPicPr/>
            <p:nvPr/>
          </p:nvPicPr>
          <p:blipFill>
            <a:blip r:embed="rId2"/>
            <a:stretch/>
          </p:blipFill>
          <p:spPr>
            <a:xfrm>
              <a:off x="4419720" y="6095880"/>
              <a:ext cx="7398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Rectangle 3"/>
          <p:cNvSpPr/>
          <p:nvPr/>
        </p:nvSpPr>
        <p:spPr>
          <a:xfrm>
            <a:off x="990720" y="1143000"/>
            <a:ext cx="762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ahoma"/>
                <a:ea typeface="Tahoma"/>
              </a:rPr>
              <a:t>Regional Impacts</a:t>
            </a:r>
            <a:r>
              <a:rPr b="0" lang="en-US" sz="2800" spc="-1" strike="noStrike">
                <a:solidFill>
                  <a:srgbClr val="3333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Tahoma"/>
              </a:rPr>
              <a:t>Over 300 metric tons of GHG emissions avoided from use of B20 Biodies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Tahoma"/>
              </a:rPr>
              <a:t>Recycled over 360 tons of pap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Tahoma"/>
              </a:rPr>
              <a:t>Built safer, more efficient, and more environmentally friendly buildings through our LEED Standards commitmen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Tahoma"/>
              </a:rPr>
              <a:t>Use only green cleaning products in our facil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ahoma"/>
              </a:rPr>
              <a:t>GREEN GOVERNMENT PROGR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387080" y="97920"/>
            <a:ext cx="636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23 GGP Measures Have Been Successfully Completed Resulting in an overall improved regional environment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762120" y="1752480"/>
            <a:ext cx="746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Tahoma"/>
              </a:rPr>
              <a:t>23+ GGP Measures have bee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Tahoma"/>
              </a:rPr>
              <a:t>successfully comple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0" y="648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Verdana"/>
              </a:rPr>
              <a:t>joncewalker@mail.maricopa.go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0" y="6019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Verdana"/>
              </a:rPr>
              <a:t>www.mygreengovernmen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5"/>
          <p:cNvGrpSpPr/>
          <p:nvPr/>
        </p:nvGrpSpPr>
        <p:grpSpPr>
          <a:xfrm>
            <a:off x="4419720" y="5791320"/>
            <a:ext cx="4724280" cy="1066680"/>
            <a:chOff x="4419720" y="5791320"/>
            <a:chExt cx="4724280" cy="1066680"/>
          </a:xfrm>
        </p:grpSpPr>
        <p:pic>
          <p:nvPicPr>
            <p:cNvPr id="171" name="Picture 6" descr=""/>
            <p:cNvPicPr/>
            <p:nvPr/>
          </p:nvPicPr>
          <p:blipFill>
            <a:blip r:embed="rId1"/>
            <a:stretch/>
          </p:blipFill>
          <p:spPr>
            <a:xfrm>
              <a:off x="5122800" y="5791320"/>
              <a:ext cx="402120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7" descr=""/>
            <p:cNvPicPr/>
            <p:nvPr/>
          </p:nvPicPr>
          <p:blipFill>
            <a:blip r:embed="rId2"/>
            <a:stretch/>
          </p:blipFill>
          <p:spPr>
            <a:xfrm>
              <a:off x="4419720" y="6095880"/>
              <a:ext cx="7398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Rectangle 3"/>
          <p:cNvSpPr/>
          <p:nvPr/>
        </p:nvSpPr>
        <p:spPr>
          <a:xfrm>
            <a:off x="990720" y="1143000"/>
            <a:ext cx="762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ahoma"/>
                <a:ea typeface="Tahoma"/>
              </a:rPr>
              <a:t>Regional Impacts</a:t>
            </a:r>
            <a:r>
              <a:rPr b="0" lang="en-US" sz="2800" spc="-1" strike="noStrike">
                <a:solidFill>
                  <a:srgbClr val="3333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Tahoma"/>
              </a:rPr>
              <a:t>Reduce overall energy consumption by more than 5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Tahoma"/>
              </a:rPr>
              <a:t>Green Building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Tahoma"/>
              </a:rPr>
              <a:t>Recyclables at all waste transfer st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Tahoma"/>
              </a:rPr>
              <a:t>Establish an Environmentally Preferred Purchasing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Tahoma"/>
              </a:rPr>
              <a:t>Increased telecommuting and video conferenc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ahoma"/>
              </a:rPr>
              <a:t>GREEN GOVERNMENT PROGR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387080" y="97920"/>
            <a:ext cx="636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23 GGP Measures Have Been Successfully Completed Resulting in an overall improved regional environment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914400" y="1752480"/>
            <a:ext cx="7467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Tahoma"/>
              </a:rPr>
              <a:t>34+Measures have been successfully launch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0" y="648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Verdana"/>
              </a:rPr>
              <a:t>joncewalker@mail.maricopa.go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0" y="6019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Verdana"/>
              </a:rPr>
              <a:t>www.mygreengovernmen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0"/>
          <p:cNvGrpSpPr/>
          <p:nvPr/>
        </p:nvGrpSpPr>
        <p:grpSpPr>
          <a:xfrm>
            <a:off x="380880" y="123840"/>
            <a:ext cx="8763120" cy="2393280"/>
            <a:chOff x="380880" y="123840"/>
            <a:chExt cx="8763120" cy="2393280"/>
          </a:xfrm>
        </p:grpSpPr>
        <p:pic>
          <p:nvPicPr>
            <p:cNvPr id="180" name="Picture 2" descr=""/>
            <p:cNvPicPr/>
            <p:nvPr/>
          </p:nvPicPr>
          <p:blipFill>
            <a:blip r:embed="rId1"/>
            <a:stretch/>
          </p:blipFill>
          <p:spPr>
            <a:xfrm>
              <a:off x="990360" y="123840"/>
              <a:ext cx="815364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9"/>
            <p:cNvSpPr/>
            <p:nvPr/>
          </p:nvSpPr>
          <p:spPr>
            <a:xfrm>
              <a:off x="380880" y="228600"/>
              <a:ext cx="7925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8000"/>
                  </a:solidFill>
                  <a:latin typeface="Garamond"/>
                  <a:ea typeface="Tahoma"/>
                </a:rPr>
                <a:t>Maricopa County</a:t>
              </a:r>
              <a:endParaRPr b="0" lang="en-US" sz="7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82" name="Picture 6" descr="Green County Seal_3.jpg"/>
          <p:cNvPicPr/>
          <p:nvPr/>
        </p:nvPicPr>
        <p:blipFill>
          <a:blip r:embed="rId2"/>
          <a:stretch/>
        </p:blipFill>
        <p:spPr>
          <a:xfrm>
            <a:off x="2514600" y="1981080"/>
            <a:ext cx="3900600" cy="3949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5867280"/>
            <a:ext cx="7313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000"/>
            </a:b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Wednesday, August 18, 2010</a:t>
            </a:r>
            <a:br>
              <a:rPr sz="1400"/>
            </a:b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Jonce Walker, LEED AP</a:t>
            </a:r>
            <a:br>
              <a:rPr sz="1400"/>
            </a:br>
            <a:r>
              <a:rPr b="0" lang="en-US" sz="1400" spc="-1" strike="noStrike">
                <a:solidFill>
                  <a:srgbClr val="333300"/>
                </a:solidFill>
                <a:latin typeface="Arial"/>
              </a:rPr>
              <a:t>Maricopa County Sustainability Manager </a:t>
            </a:r>
            <a:br>
              <a:rPr sz="1800"/>
            </a:b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 rot="16200000">
            <a:off x="-3085920" y="3085920"/>
            <a:ext cx="6858000" cy="685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dvancing Regional Sustainability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2133720"/>
            <a:ext cx="82296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>
              <a:lnSpc>
                <a:spcPct val="9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ahoma"/>
              </a:rPr>
              <a:t>A Board of Supervisors adopted policy document to help strengthen the County’s vision towards regional sustainability.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4419720" y="5791320"/>
            <a:ext cx="4724280" cy="1066680"/>
            <a:chOff x="4419720" y="5791320"/>
            <a:chExt cx="4724280" cy="1066680"/>
          </a:xfrm>
        </p:grpSpPr>
        <p:pic>
          <p:nvPicPr>
            <p:cNvPr id="105" name="Picture 6" descr=""/>
            <p:cNvPicPr/>
            <p:nvPr/>
          </p:nvPicPr>
          <p:blipFill>
            <a:blip r:embed="rId1"/>
            <a:stretch/>
          </p:blipFill>
          <p:spPr>
            <a:xfrm>
              <a:off x="5122800" y="5791320"/>
              <a:ext cx="402120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"/>
            <p:cNvPicPr/>
            <p:nvPr/>
          </p:nvPicPr>
          <p:blipFill>
            <a:blip r:embed="rId2"/>
            <a:stretch/>
          </p:blipFill>
          <p:spPr>
            <a:xfrm>
              <a:off x="4419720" y="6095880"/>
              <a:ext cx="7398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6"/>
          <p:cNvSpPr/>
          <p:nvPr/>
        </p:nvSpPr>
        <p:spPr>
          <a:xfrm>
            <a:off x="15228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ahoma"/>
              </a:rPr>
              <a:t>GREEN GOVERNMENT PROGRAM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0" y="648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Verdana"/>
              </a:rPr>
              <a:t>joncewalker@mail.maricopa.go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0" y="6019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Verdana"/>
              </a:rPr>
              <a:t>www.mygreengovernmen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2133720"/>
            <a:ext cx="9144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39d32"/>
                </a:solidFill>
                <a:latin typeface="Tahoma"/>
              </a:rPr>
              <a:t>The business adage that what gets measured, gets done, remains true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8" descr="Tape_measure_reel_400"/>
          <p:cNvPicPr/>
          <p:nvPr/>
        </p:nvPicPr>
        <p:blipFill>
          <a:blip r:embed="rId1"/>
          <a:stretch/>
        </p:blipFill>
        <p:spPr>
          <a:xfrm>
            <a:off x="914400" y="3962520"/>
            <a:ext cx="2438280" cy="18097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5"/>
          <p:cNvGrpSpPr/>
          <p:nvPr/>
        </p:nvGrpSpPr>
        <p:grpSpPr>
          <a:xfrm>
            <a:off x="4419720" y="5791320"/>
            <a:ext cx="4724280" cy="1066680"/>
            <a:chOff x="4419720" y="5791320"/>
            <a:chExt cx="4724280" cy="1066680"/>
          </a:xfrm>
        </p:grpSpPr>
        <p:pic>
          <p:nvPicPr>
            <p:cNvPr id="113" name="Picture 6" descr=""/>
            <p:cNvPicPr/>
            <p:nvPr/>
          </p:nvPicPr>
          <p:blipFill>
            <a:blip r:embed="rId2"/>
            <a:stretch/>
          </p:blipFill>
          <p:spPr>
            <a:xfrm>
              <a:off x="5122800" y="5791320"/>
              <a:ext cx="402120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7" descr=""/>
            <p:cNvPicPr/>
            <p:nvPr/>
          </p:nvPicPr>
          <p:blipFill>
            <a:blip r:embed="rId3"/>
            <a:stretch/>
          </p:blipFill>
          <p:spPr>
            <a:xfrm>
              <a:off x="4419720" y="6095880"/>
              <a:ext cx="7398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TextBox 7"/>
          <p:cNvSpPr/>
          <p:nvPr/>
        </p:nvSpPr>
        <p:spPr>
          <a:xfrm>
            <a:off x="0" y="648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Verdana"/>
              </a:rPr>
              <a:t>joncewalker@mail.maricopa.go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0" y="6019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Verdana"/>
              </a:rPr>
              <a:t>www.mygreengovernmen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ahoma"/>
              </a:rPr>
              <a:t>GREEN GOVERNMENT PROGRAM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Freeform 16"/>
          <p:cNvGrpSpPr/>
          <p:nvPr/>
        </p:nvGrpSpPr>
        <p:grpSpPr>
          <a:xfrm>
            <a:off x="3090960" y="4218120"/>
            <a:ext cx="2492280" cy="1341360"/>
            <a:chOff x="3090960" y="4218120"/>
            <a:chExt cx="2492280" cy="1341360"/>
          </a:xfrm>
        </p:grpSpPr>
        <p:pic>
          <p:nvPicPr>
            <p:cNvPr id="119" name="Freeform 16" descr=""/>
            <p:cNvPicPr/>
            <p:nvPr/>
          </p:nvPicPr>
          <p:blipFill>
            <a:blip r:embed="rId1"/>
            <a:stretch/>
          </p:blipFill>
          <p:spPr>
            <a:xfrm>
              <a:off x="3090960" y="4218120"/>
              <a:ext cx="24922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213000" y="4354560"/>
              <a:ext cx="22608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ahoma"/>
                </a:rPr>
                <a:t>Many Measures</a:t>
              </a:r>
              <a:endParaRPr b="0" lang="en-US" sz="35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1" name="Freeform 15"/>
          <p:cNvGrpSpPr/>
          <p:nvPr/>
        </p:nvGrpSpPr>
        <p:grpSpPr>
          <a:xfrm>
            <a:off x="2908440" y="2610000"/>
            <a:ext cx="2852640" cy="1339560"/>
            <a:chOff x="2908440" y="2610000"/>
            <a:chExt cx="2852640" cy="1339560"/>
          </a:xfrm>
        </p:grpSpPr>
        <p:pic>
          <p:nvPicPr>
            <p:cNvPr id="122" name="Freeform 15" descr=""/>
            <p:cNvPicPr/>
            <p:nvPr/>
          </p:nvPicPr>
          <p:blipFill>
            <a:blip r:embed="rId2"/>
            <a:stretch/>
          </p:blipFill>
          <p:spPr>
            <a:xfrm>
              <a:off x="2908440" y="2610000"/>
              <a:ext cx="285264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213000" y="2749680"/>
              <a:ext cx="22608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ahoma"/>
                </a:rPr>
                <a:t>7 Action</a:t>
              </a:r>
              <a:endParaRPr b="0" lang="en-US" sz="3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ahoma"/>
                </a:rPr>
                <a:t>Statements</a:t>
              </a:r>
              <a:endParaRPr b="0" lang="en-US" sz="35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4" name="Text Box 13"/>
          <p:cNvSpPr/>
          <p:nvPr/>
        </p:nvSpPr>
        <p:spPr>
          <a:xfrm>
            <a:off x="3352680" y="1981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4419720" y="5791320"/>
            <a:ext cx="4724280" cy="1066680"/>
            <a:chOff x="4419720" y="5791320"/>
            <a:chExt cx="4724280" cy="1066680"/>
          </a:xfrm>
        </p:grpSpPr>
        <p:pic>
          <p:nvPicPr>
            <p:cNvPr id="126" name="Picture 6" descr=""/>
            <p:cNvPicPr/>
            <p:nvPr/>
          </p:nvPicPr>
          <p:blipFill>
            <a:blip r:embed="rId3"/>
            <a:stretch/>
          </p:blipFill>
          <p:spPr>
            <a:xfrm>
              <a:off x="5122800" y="5791320"/>
              <a:ext cx="402120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7" descr=""/>
            <p:cNvPicPr/>
            <p:nvPr/>
          </p:nvPicPr>
          <p:blipFill>
            <a:blip r:embed="rId4"/>
            <a:stretch/>
          </p:blipFill>
          <p:spPr>
            <a:xfrm>
              <a:off x="4419720" y="6095880"/>
              <a:ext cx="7398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Freeform 12"/>
          <p:cNvSpPr/>
          <p:nvPr/>
        </p:nvSpPr>
        <p:spPr>
          <a:xfrm>
            <a:off x="4297320" y="3879720"/>
            <a:ext cx="92160" cy="474840"/>
          </a:xfrm>
          <a:custGeom>
            <a:avLst/>
            <a:gdLst>
              <a:gd name="textAreaLeft" fmla="*/ 0 w 92160"/>
              <a:gd name="textAreaRight" fmla="*/ 92520 w 9216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92075" h="474663">
                <a:moveTo>
                  <a:pt x="45720" y="0"/>
                </a:moveTo>
                <a:lnTo>
                  <a:pt x="45720" y="474668"/>
                </a:lnTo>
              </a:path>
            </a:pathLst>
          </a:custGeom>
          <a:noFill/>
          <a:ln w="25560">
            <a:solidFill>
              <a:srgbClr val="cc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Freeform 13"/>
          <p:cNvSpPr/>
          <p:nvPr/>
        </p:nvSpPr>
        <p:spPr>
          <a:xfrm>
            <a:off x="4297320" y="2274840"/>
            <a:ext cx="92160" cy="474840"/>
          </a:xfrm>
          <a:custGeom>
            <a:avLst/>
            <a:gdLst>
              <a:gd name="textAreaLeft" fmla="*/ 0 w 92160"/>
              <a:gd name="textAreaRight" fmla="*/ 92520 w 9216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92075" h="474662">
                <a:moveTo>
                  <a:pt x="45720" y="0"/>
                </a:moveTo>
                <a:lnTo>
                  <a:pt x="45720" y="474668"/>
                </a:lnTo>
              </a:path>
            </a:pathLst>
          </a:custGeom>
          <a:noFill/>
          <a:ln w="25560">
            <a:solidFill>
              <a:srgbClr val="8ab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" name="Freeform 14"/>
          <p:cNvGrpSpPr/>
          <p:nvPr/>
        </p:nvGrpSpPr>
        <p:grpSpPr>
          <a:xfrm>
            <a:off x="3151080" y="1109520"/>
            <a:ext cx="2610000" cy="1236960"/>
            <a:chOff x="3151080" y="1109520"/>
            <a:chExt cx="2610000" cy="1236960"/>
          </a:xfrm>
        </p:grpSpPr>
        <p:pic>
          <p:nvPicPr>
            <p:cNvPr id="131" name="Freeform 14" descr=""/>
            <p:cNvPicPr/>
            <p:nvPr/>
          </p:nvPicPr>
          <p:blipFill>
            <a:blip r:embed="rId5"/>
            <a:stretch/>
          </p:blipFill>
          <p:spPr>
            <a:xfrm>
              <a:off x="3151080" y="1109520"/>
              <a:ext cx="26100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213000" y="1144440"/>
              <a:ext cx="22608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3500" spc="-1" strike="noStrike">
                  <a:solidFill>
                    <a:srgbClr val="ffffff"/>
                  </a:solidFill>
                  <a:latin typeface="Tahoma"/>
                </a:rPr>
                <a:t>1 Mission </a:t>
              </a:r>
              <a:endParaRPr b="0" lang="en-US" sz="35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3" name="Rectangle 6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ahoma"/>
              </a:rPr>
              <a:t>GREEN GOVERNMENT PROGRAM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0" y="648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Verdana"/>
              </a:rPr>
              <a:t>joncewalker@mail.maricopa.go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0" y="6019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Verdana"/>
              </a:rPr>
              <a:t>www.mygreengovernmen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2777 L 0 -3.33333E-006 E">
                                      <p:cBhvr>
                                        <p:cTn id="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4618 L 0 -1.11111E-006 E">
                                      <p:cBhvr>
                                        <p:cTn id="8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5"/>
          <p:cNvGrpSpPr/>
          <p:nvPr/>
        </p:nvGrpSpPr>
        <p:grpSpPr>
          <a:xfrm>
            <a:off x="4419720" y="5791320"/>
            <a:ext cx="4724280" cy="1066680"/>
            <a:chOff x="4419720" y="5791320"/>
            <a:chExt cx="4724280" cy="1066680"/>
          </a:xfrm>
        </p:grpSpPr>
        <p:pic>
          <p:nvPicPr>
            <p:cNvPr id="137" name="Picture 6" descr=""/>
            <p:cNvPicPr/>
            <p:nvPr/>
          </p:nvPicPr>
          <p:blipFill>
            <a:blip r:embed="rId1"/>
            <a:stretch/>
          </p:blipFill>
          <p:spPr>
            <a:xfrm>
              <a:off x="5122800" y="5791320"/>
              <a:ext cx="402120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7" descr=""/>
            <p:cNvPicPr/>
            <p:nvPr/>
          </p:nvPicPr>
          <p:blipFill>
            <a:blip r:embed="rId2"/>
            <a:stretch/>
          </p:blipFill>
          <p:spPr>
            <a:xfrm>
              <a:off x="4419720" y="6095880"/>
              <a:ext cx="7398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Rectangle 3"/>
          <p:cNvSpPr/>
          <p:nvPr/>
        </p:nvSpPr>
        <p:spPr>
          <a:xfrm>
            <a:off x="990720" y="1143000"/>
            <a:ext cx="76215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ahoma"/>
                <a:ea typeface="Tahoma"/>
              </a:rPr>
              <a:t>Internal Particip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Adult Proba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Air Qual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Animal Care and Contro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Assessor’s Offi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Environmental Servic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Equipment Servic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Facilities Manage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Flood Control Distric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Human Resourc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Library Distric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Medical Examiner’s Offi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Parks and Recrea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Planning and Develop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Public Health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Public Works Professional Support Servic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Solid Wast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Stadium Distric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ahoma"/>
                <a:ea typeface="Tahoma"/>
              </a:rPr>
              <a:t>Transportation Depart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ahoma"/>
              </a:rPr>
              <a:t>GREEN GOVERNMENT PROGR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14040" y="1066680"/>
            <a:ext cx="76215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Verdana"/>
              </a:rPr>
              <a:t>Measurement Examp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38120" indent="-168480"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38120" indent="-168480"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38120" indent="-16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4419720" y="5791320"/>
            <a:ext cx="4724280" cy="1066680"/>
            <a:chOff x="4419720" y="5791320"/>
            <a:chExt cx="4724280" cy="1066680"/>
          </a:xfrm>
        </p:grpSpPr>
        <p:pic>
          <p:nvPicPr>
            <p:cNvPr id="143" name="Picture 5" descr=""/>
            <p:cNvPicPr/>
            <p:nvPr/>
          </p:nvPicPr>
          <p:blipFill>
            <a:blip r:embed="rId1"/>
            <a:stretch/>
          </p:blipFill>
          <p:spPr>
            <a:xfrm>
              <a:off x="5122800" y="5791320"/>
              <a:ext cx="402120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6" descr=""/>
            <p:cNvPicPr/>
            <p:nvPr/>
          </p:nvPicPr>
          <p:blipFill>
            <a:blip r:embed="rId2"/>
            <a:stretch/>
          </p:blipFill>
          <p:spPr>
            <a:xfrm>
              <a:off x="4419720" y="6095880"/>
              <a:ext cx="7398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Rectangle 6"/>
          <p:cNvSpPr/>
          <p:nvPr/>
        </p:nvSpPr>
        <p:spPr>
          <a:xfrm>
            <a:off x="457200" y="152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ahoma"/>
              </a:rPr>
              <a:t>GREEN GOVERNMENT PROGR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438280" y="182880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5920"/>
                <a:tab algn="l" pos="231840"/>
                <a:tab algn="l" pos="347760"/>
                <a:tab algn="l" pos="463680"/>
                <a:tab algn="l" pos="579600"/>
                <a:tab algn="l" pos="695160"/>
                <a:tab algn="l" pos="811080"/>
                <a:tab algn="l" pos="927000"/>
                <a:tab algn="l" pos="1042920"/>
                <a:tab algn="l" pos="1158840"/>
                <a:tab algn="l" pos="1274760"/>
                <a:tab algn="l" pos="1390680"/>
                <a:tab algn="l" pos="1506600"/>
                <a:tab algn="l" pos="1622520"/>
                <a:tab algn="l" pos="1738440"/>
                <a:tab algn="l" pos="1854360"/>
                <a:tab algn="l" pos="1969920"/>
                <a:tab algn="l" pos="2085840"/>
                <a:tab algn="l" pos="2201760"/>
                <a:tab algn="l" pos="231768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Maricopa County will develop and implement a program whereby Maricopa County agencies and departments will reduce overall </a:t>
            </a:r>
            <a:r>
              <a:rPr b="1" lang="en-US" sz="2400" spc="-1" strike="noStrike">
                <a:solidFill>
                  <a:srgbClr val="333300"/>
                </a:solidFill>
                <a:latin typeface="Tahoma"/>
              </a:rPr>
              <a:t>energy</a:t>
            </a: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 use by at least </a:t>
            </a:r>
            <a:r>
              <a:rPr b="1" lang="en-US" sz="2400" spc="-1" strike="noStrike">
                <a:solidFill>
                  <a:srgbClr val="333300"/>
                </a:solidFill>
                <a:latin typeface="Tahoma"/>
              </a:rPr>
              <a:t>5%</a:t>
            </a: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 between </a:t>
            </a:r>
            <a:r>
              <a:rPr b="1" lang="en-US" sz="2400" spc="-1" strike="noStrike">
                <a:solidFill>
                  <a:srgbClr val="333300"/>
                </a:solidFill>
                <a:latin typeface="Tahoma"/>
              </a:rPr>
              <a:t>July 2008 </a:t>
            </a: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and </a:t>
            </a:r>
            <a:r>
              <a:rPr b="1" lang="en-US" sz="2400" spc="-1" strike="noStrike">
                <a:solidFill>
                  <a:srgbClr val="333300"/>
                </a:solidFill>
                <a:latin typeface="Tahoma"/>
              </a:rPr>
              <a:t>July 2013</a:t>
            </a: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914400" y="1752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Verdana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0" y="648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Verdana"/>
              </a:rPr>
              <a:t>joncewalker@mail.maricopa.go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0" y="6019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Verdana"/>
              </a:rPr>
              <a:t>www.mygreengovernmen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12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876240" cy="876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0" y="57240"/>
            <a:ext cx="9753480" cy="6743520"/>
          </a:xfrm>
          <a:prstGeom prst="rect">
            <a:avLst/>
          </a:prstGeom>
          <a:ln w="0">
            <a:noFill/>
          </a:ln>
        </p:spPr>
      </p:pic>
      <p:cxnSp>
        <p:nvCxnSpPr>
          <p:cNvPr id="154" name="Straight Arrow Connector 5"/>
          <p:cNvCxnSpPr/>
          <p:nvPr/>
        </p:nvCxnSpPr>
        <p:spPr>
          <a:xfrm flipH="1">
            <a:off x="4266720" y="4875840"/>
            <a:ext cx="1448640" cy="2293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57240"/>
            <a:ext cx="9753480" cy="674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rcRect l="6249" t="38702" r="10936" b="7062"/>
          <a:stretch/>
        </p:blipFill>
        <p:spPr>
          <a:xfrm>
            <a:off x="609480" y="0"/>
            <a:ext cx="807732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rcRect l="5470" t="31922" r="17189" b="47745"/>
          <a:stretch/>
        </p:blipFill>
        <p:spPr>
          <a:xfrm>
            <a:off x="609480" y="3657600"/>
            <a:ext cx="7925040" cy="1371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rcRect l="4688" t="52261" r="17968" b="27401"/>
          <a:stretch/>
        </p:blipFill>
        <p:spPr>
          <a:xfrm>
            <a:off x="609480" y="5029200"/>
            <a:ext cx="792504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4:46:30Z</dcterms:created>
  <dc:creator>Air Quality</dc:creator>
  <dc:description/>
  <dc:language>en-US</dc:language>
  <cp:lastModifiedBy>walkerj</cp:lastModifiedBy>
  <dcterms:modified xsi:type="dcterms:W3CDTF">2010-08-18T01:13:06Z</dcterms:modified>
  <cp:revision>462</cp:revision>
  <dc:subject/>
  <dc:title>Slide 1</dc:title>
</cp:coreProperties>
</file>