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7.png" ContentType="image/png"/>
  <Override PartName="/ppt/media/image14.jpeg" ContentType="image/jpeg"/>
  <Override PartName="/ppt/media/image2.png" ContentType="image/png"/>
  <Override PartName="/ppt/media/image1.png" ContentType="image/png"/>
  <Override PartName="/ppt/media/image15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EFB84A-38B3-47BA-A65C-6C4FC9A1A3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background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296D4AD-180E-4DAC-8AA0-673736F33D54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 Hall, Start December 2008, Completed February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pular in Ger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% less production than Polycrystalline.  We are monitoring , but 15% cheap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B6B2862-C5F8-4138-8E58-80B8502A95C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909923F-D4F3-4279-A661-6D122771536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62EFC0C-8421-4F35-880F-8D93B82D0D5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32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966A1D90-7072-46AE-A2DA-9E8483689CCC}" type="slidenum">
              <a:rPr b="0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47B05DA-5CE8-4D5E-A4AD-9CEBBBD1B40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18C2E6C-BB5D-4B3B-B24B-19067D2C840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king Structure 5, Start October 2008 Completed January 200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king Structure 1, Start November 2008 Completed February 200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24D2027-A1F1-4BF0-BF81-437A5BD24D3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2BBD982-CA33-43F9-B84D-CB7568DC6EC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3" name="Picture 6" descr="GIOSlogoV2_CMYK.png"/>
          <p:cNvPicPr/>
          <p:nvPr/>
        </p:nvPicPr>
        <p:blipFill>
          <a:blip r:embed="rId3"/>
          <a:stretch/>
        </p:blipFill>
        <p:spPr>
          <a:xfrm>
            <a:off x="152280" y="6248520"/>
            <a:ext cx="2210040" cy="49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carboncounter.org/offset-projects/project-portfolio.aspx" TargetMode="External"/><Relationship Id="rId2" Type="http://schemas.openxmlformats.org/officeDocument/2006/relationships/hyperlink" Target="http://www.carboncounter.org/offset-your-emissions/personal-calculator.aspx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a/imgres?imgurl=http://www.personalloanprogram.com/_borders/Arizona_home_loan_program_house_pic.jpg&amp;imgrefurl=http://www.personalloanprogram.com/&amp;usg=__UfKbfN58l5mGBBvTtLn4VppMcms=&amp;h=1024&amp;w=1024&amp;sz=497&amp;hl=en&amp;start=1&amp;tbnid=lTgEruTGPYFJ0M:&amp;tbnh=150&amp;tbnw=150&amp;prev=/images?q=arizona+home&amp;gbv=2&amp;hl=en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838080"/>
            <a:ext cx="83822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Arizona State University – </a:t>
            </a:r>
            <a:br>
              <a:rPr sz="4800"/>
            </a:b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A Leader in Solar</a:t>
            </a:r>
            <a:endParaRPr b="1" lang="en-US" sz="4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44792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“…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be the change you want to see in the world…”</a:t>
            </a:r>
            <a:br>
              <a:rPr sz="3200"/>
            </a:b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Mahatma Gandhi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5181480"/>
            <a:ext cx="54864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Bonny Bentz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irector, University Sustainability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Stadium Parking Structure Solar Project</a:t>
            </a:r>
            <a:br>
              <a:rPr sz="3200"/>
            </a:b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95" name="Content Placeholder 5" descr="Stadium Parking Structure, 730 kilowatt solar project (2).JPG"/>
          <p:cNvPicPr/>
          <p:nvPr/>
        </p:nvPicPr>
        <p:blipFill>
          <a:blip r:embed="rId1"/>
          <a:stretch/>
        </p:blipFill>
        <p:spPr>
          <a:xfrm>
            <a:off x="3132000" y="2209680"/>
            <a:ext cx="6012000" cy="3810240"/>
          </a:xfrm>
          <a:prstGeom prst="rect">
            <a:avLst/>
          </a:prstGeom>
          <a:ln w="0">
            <a:noFill/>
          </a:ln>
        </p:spPr>
      </p:pic>
      <p:pic>
        <p:nvPicPr>
          <p:cNvPr id="96" name="Content Placeholder 3" descr="Stadium Parking Structure, 730 kilowatt solar project.JPG"/>
          <p:cNvPicPr/>
          <p:nvPr/>
        </p:nvPicPr>
        <p:blipFill>
          <a:blip r:embed="rId2"/>
          <a:stretch/>
        </p:blipFill>
        <p:spPr>
          <a:xfrm>
            <a:off x="457200" y="1447920"/>
            <a:ext cx="4191120" cy="3240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181480" y="647712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oto credit - SolEqu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029200" y="15238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711 kilowat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990000"/>
                </a:solidFill>
                <a:latin typeface="Arial"/>
                <a:ea typeface="ＭＳ Ｐゴシック"/>
              </a:rPr>
              <a:t>2008 Reference Projects – Coor Hall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108 kW fixed tilt thin film rooftop PV system manufactured by First Solar, installed by SolEquity.   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Owned and operated by a private investor.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ASU purchases the power.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01" name="Picture 6" descr="ASU Coor Hall D"/>
          <p:cNvPicPr/>
          <p:nvPr/>
        </p:nvPicPr>
        <p:blipFill>
          <a:blip r:embed="rId1"/>
          <a:stretch/>
        </p:blipFill>
        <p:spPr>
          <a:xfrm>
            <a:off x="2666880" y="4495680"/>
            <a:ext cx="2298960" cy="17240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ASU Coor Hall B"/>
          <p:cNvPicPr/>
          <p:nvPr/>
        </p:nvPicPr>
        <p:blipFill>
          <a:blip r:embed="rId2"/>
          <a:stretch/>
        </p:blipFill>
        <p:spPr>
          <a:xfrm>
            <a:off x="6095880" y="3124080"/>
            <a:ext cx="221616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Financing of Solar Projects –Owned and Operated by a Private Investor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0" y="9144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99"/>
                </a:solidFill>
                <a:latin typeface="Arial"/>
              </a:rPr>
              <a:t>Projects were financed under a Photovoltaic System Services Management Agreement between ASU and Sun Devil Solar, LLC.</a:t>
            </a:r>
            <a:endParaRPr b="0" lang="en-US" sz="23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99"/>
                </a:solidFill>
                <a:latin typeface="Arial"/>
              </a:rPr>
              <a:t>Term of the agreement is 15 years, with a potential to extend for an additional 5 years.</a:t>
            </a:r>
            <a:endParaRPr b="0" lang="en-US" sz="23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99"/>
                </a:solidFill>
                <a:latin typeface="Arial"/>
              </a:rPr>
              <a:t>No up-front investment by ASU.  The PV systems, owned by Sun Devil Solar, LLC, will generate electrical power for ASU and ASU will pay for this service.</a:t>
            </a:r>
            <a:endParaRPr b="0" lang="en-US" sz="23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99"/>
                </a:solidFill>
                <a:latin typeface="Arial"/>
              </a:rPr>
              <a:t>The Photovoltaic System Services Management Agreement applies to the above three solar projects and can be modified to add others.</a:t>
            </a:r>
            <a:endParaRPr b="0" lang="en-US" sz="23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99"/>
                </a:solidFill>
                <a:latin typeface="Arial"/>
              </a:rPr>
              <a:t>ASU can purchase the systems at fair market value at the end of the term of the agreement or extend the agreement for additional service.</a:t>
            </a:r>
            <a:endParaRPr b="0" lang="en-US" sz="23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How Does This Work?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8686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tarted with a rooftop study.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SU issued a 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general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RFP for solar work for its campuses.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ree companies were selected – SolEquity, Honeywell, and Integrated Energy.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 fourth company – APSES – was added through an intergovernmental partnership.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rojects are called Photovoltaic System Services Management Agreement</a:t>
            </a:r>
            <a:r>
              <a:rPr b="0" lang="en-US" sz="23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Biodesign A &amp; B Rooftops</a:t>
            </a:r>
            <a:br>
              <a:rPr sz="3600"/>
            </a:b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1676160"/>
            <a:ext cx="3556080" cy="41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Owned, operated and maintained by ASU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150 kilowatt Fixed Polycrystalline Panel Arrays Solar System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09" name="Content Placeholder 6" descr="DSC01130a.JPG"/>
          <p:cNvPicPr/>
          <p:nvPr/>
        </p:nvPicPr>
        <p:blipFill>
          <a:blip r:embed="rId1"/>
          <a:stretch/>
        </p:blipFill>
        <p:spPr>
          <a:xfrm>
            <a:off x="3581280" y="1828800"/>
            <a:ext cx="514836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152280" y="0"/>
            <a:ext cx="899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      </a:t>
            </a:r>
            <a:r>
              <a:rPr b="1" lang="en-US" sz="3600" spc="-1" strike="noStrike">
                <a:solidFill>
                  <a:srgbClr val="800000"/>
                </a:solidFill>
                <a:latin typeface="Arial"/>
                <a:ea typeface="Arial"/>
              </a:rPr>
              <a:t>Carbon Emi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7" descr="hc_fig5_23"/>
          <p:cNvPicPr/>
          <p:nvPr/>
        </p:nvPicPr>
        <p:blipFill>
          <a:blip r:embed="rId1"/>
          <a:stretch/>
        </p:blipFill>
        <p:spPr>
          <a:xfrm>
            <a:off x="838080" y="838080"/>
            <a:ext cx="7767720" cy="5062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12" name=""/>
          <p:cNvSpPr/>
          <p:nvPr/>
        </p:nvSpPr>
        <p:spPr>
          <a:xfrm>
            <a:off x="5791320" y="6477120"/>
            <a:ext cx="335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liments of Sterling Plan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What Are Carbon Offsets?</a:t>
            </a:r>
            <a:endParaRPr b="1" lang="en-US" sz="4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arbon offsets counteract activities that emit carbon into the atmosphere by funding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rojects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 that remove carbon dioxide from the atmosphere.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" y="3552120"/>
            <a:ext cx="861048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34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Offsets can be created 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creasing energy efficiency in buildings, factories, or transport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Generating electricity from renewables such as wind or sol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odifying a power plant or factory to use fuels that produce less GH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utting wasted energy to work via cogener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apturing carbon dioxide in forests and agricultural so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410080" y="640080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carboncounter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Lessons Being Learned</a:t>
            </a:r>
            <a:endParaRPr b="1" lang="en-US" sz="4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e first major project is the most difficult.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PA’s – the client (you) needs to commit to making this happen.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Heavy coordination with the utility (APS/SRP) on interconnect agreements.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REC’s and Carbon Credit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Today</a:t>
            </a:r>
            <a:endParaRPr b="1" lang="en-US" sz="4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Brief review of ASU projects and the carbon world – Bonny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rocurement Process – John Riley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mplementation: ASU as the client – Rob Vandling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PS: The Critical Role of the Local Utility – Kyle Woolfolk and Rex Stepp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iscussion/Q&amp;A (Lot’s of time for this one) - Al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Carbon Inventory</a:t>
            </a:r>
            <a:endParaRPr b="1" lang="en-US" sz="4000" spc="-1" strike="noStrike">
              <a:solidFill>
                <a:srgbClr val="99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0" y="1001880"/>
          <a:ext cx="9144000" cy="4360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01880"/>
                    <a:ext cx="9144000" cy="436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838080" y="762120"/>
            <a:ext cx="723924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Carbon Plan Overview – Energy</a:t>
            </a:r>
            <a:endParaRPr b="1" lang="en-US" sz="40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57" name="Picture 3" descr="grab1.png"/>
          <p:cNvPicPr/>
          <p:nvPr/>
        </p:nvPicPr>
        <p:blipFill>
          <a:blip r:embed="rId1"/>
          <a:stretch/>
        </p:blipFill>
        <p:spPr>
          <a:xfrm>
            <a:off x="1143000" y="785880"/>
            <a:ext cx="642312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Two Years of Planning Realized</a:t>
            </a:r>
            <a:endParaRPr b="1" lang="en-US" sz="40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59" name="Picture 12" descr="298F2173-EA89-407E-88C5-D147D43F8325"/>
          <p:cNvPicPr/>
          <p:nvPr/>
        </p:nvPicPr>
        <p:blipFill>
          <a:blip r:embed="rId1"/>
          <a:stretch/>
        </p:blipFill>
        <p:spPr>
          <a:xfrm>
            <a:off x="0" y="685800"/>
            <a:ext cx="3505320" cy="1971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ASU Parking Structure 1 C"/>
          <p:cNvPicPr/>
          <p:nvPr/>
        </p:nvPicPr>
        <p:blipFill>
          <a:blip r:embed="rId2"/>
          <a:stretch/>
        </p:blipFill>
        <p:spPr>
          <a:xfrm>
            <a:off x="0" y="2895480"/>
            <a:ext cx="2865600" cy="1908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ASU Parking Structure 1 E"/>
          <p:cNvPicPr/>
          <p:nvPr/>
        </p:nvPicPr>
        <p:blipFill>
          <a:blip r:embed="rId3"/>
          <a:stretch/>
        </p:blipFill>
        <p:spPr>
          <a:xfrm>
            <a:off x="3200400" y="2895480"/>
            <a:ext cx="2865600" cy="1906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ASU Parking Structure 1 A"/>
          <p:cNvPicPr/>
          <p:nvPr/>
        </p:nvPicPr>
        <p:blipFill>
          <a:blip r:embed="rId4"/>
          <a:stretch/>
        </p:blipFill>
        <p:spPr>
          <a:xfrm>
            <a:off x="6310440" y="2895480"/>
            <a:ext cx="2833560" cy="18860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" descr="ASU Parking Structure 5 C"/>
          <p:cNvPicPr/>
          <p:nvPr/>
        </p:nvPicPr>
        <p:blipFill>
          <a:blip r:embed="rId5"/>
          <a:stretch/>
        </p:blipFill>
        <p:spPr>
          <a:xfrm>
            <a:off x="0" y="4960800"/>
            <a:ext cx="2851200" cy="1897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ASU Parking Structure 5 E"/>
          <p:cNvPicPr/>
          <p:nvPr/>
        </p:nvPicPr>
        <p:blipFill>
          <a:blip r:embed="rId6"/>
          <a:stretch/>
        </p:blipFill>
        <p:spPr>
          <a:xfrm>
            <a:off x="3200400" y="4971960"/>
            <a:ext cx="2855880" cy="1886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ASU Parking Structure 5 A"/>
          <p:cNvPicPr/>
          <p:nvPr/>
        </p:nvPicPr>
        <p:blipFill>
          <a:blip r:embed="rId7"/>
          <a:stretch/>
        </p:blipFill>
        <p:spPr>
          <a:xfrm>
            <a:off x="6305400" y="4964040"/>
            <a:ext cx="2838600" cy="189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ASU Coor Hall D"/>
          <p:cNvPicPr/>
          <p:nvPr/>
        </p:nvPicPr>
        <p:blipFill>
          <a:blip r:embed="rId8"/>
          <a:stretch/>
        </p:blipFill>
        <p:spPr>
          <a:xfrm>
            <a:off x="6172200" y="685800"/>
            <a:ext cx="2971800" cy="20667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657600" y="1143000"/>
            <a:ext cx="205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1.8 MW installed to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Tyler Street Parking Structure</a:t>
            </a:r>
            <a:br>
              <a:rPr sz="3600"/>
            </a:b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30 kilowatt Thin Film Solar System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69" name="Picture 2" descr="DSC00002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4191120" y="1295280"/>
            <a:ext cx="3311280" cy="2738520"/>
          </a:xfrm>
          <a:prstGeom prst="rect">
            <a:avLst/>
          </a:prstGeom>
          <a:ln w="0">
            <a:noFill/>
          </a:ln>
        </p:spPr>
      </p:pic>
      <p:sp>
        <p:nvSpPr>
          <p:cNvPr id="70" name="TextBox 4"/>
          <p:cNvSpPr/>
          <p:nvPr/>
        </p:nvSpPr>
        <p:spPr>
          <a:xfrm>
            <a:off x="0" y="1219320"/>
            <a:ext cx="41911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alibri"/>
              </a:rPr>
              <a:t>First solar installation at ASU in 200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alibri"/>
              </a:rPr>
              <a:t>Solar Project canopies that support the thin film solar laminates and provide shade for 44 spa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alibri"/>
              </a:rPr>
              <a:t>Owned and operated by the Univers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DSC00007"/>
          <p:cNvPicPr/>
          <p:nvPr/>
        </p:nvPicPr>
        <p:blipFill>
          <a:blip r:embed="rId2"/>
          <a:stretch/>
        </p:blipFill>
        <p:spPr>
          <a:xfrm>
            <a:off x="5334120" y="3462480"/>
            <a:ext cx="3809880" cy="33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990000"/>
                </a:solidFill>
                <a:latin typeface="Arial"/>
                <a:ea typeface="ＭＳ Ｐゴシック"/>
              </a:rPr>
              <a:t>Milestones Set by 2008 Installations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3399"/>
                </a:solidFill>
                <a:latin typeface="Arial"/>
              </a:rPr>
              <a:t>Largest solar installation at a US university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3399"/>
                </a:solidFill>
                <a:latin typeface="Arial"/>
              </a:rPr>
              <a:t>Largest non-utility solar power plant in AZ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3399"/>
                </a:solidFill>
                <a:latin typeface="Arial"/>
              </a:rPr>
              <a:t>First commercial Solar Services Agreement in AZ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3399"/>
                </a:solidFill>
                <a:latin typeface="Arial"/>
              </a:rPr>
              <a:t>Positions ASU as leader in adopting solar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3399"/>
                </a:solidFill>
                <a:latin typeface="Arial"/>
              </a:rPr>
              <a:t>Environmental benefits equivalent to: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74" name="Picture 1039" descr="Arizona_home_loan_program_house_pic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3809880"/>
            <a:ext cx="1930320" cy="16239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30" descr="FordTaurus"/>
          <p:cNvPicPr/>
          <p:nvPr/>
        </p:nvPicPr>
        <p:blipFill>
          <a:blip r:embed="rId3"/>
          <a:stretch/>
        </p:blipFill>
        <p:spPr>
          <a:xfrm>
            <a:off x="3719520" y="4145040"/>
            <a:ext cx="1938240" cy="9572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Smokestack"/>
          <p:cNvPicPr/>
          <p:nvPr/>
        </p:nvPicPr>
        <p:blipFill>
          <a:blip r:embed="rId4"/>
          <a:stretch/>
        </p:blipFill>
        <p:spPr>
          <a:xfrm>
            <a:off x="6400800" y="3886200"/>
            <a:ext cx="1935000" cy="161784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6"/>
          <p:cNvSpPr/>
          <p:nvPr/>
        </p:nvSpPr>
        <p:spPr>
          <a:xfrm>
            <a:off x="914400" y="54864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800" spc="-1" strike="noStrike">
                <a:solidFill>
                  <a:srgbClr val="000000"/>
                </a:solidFill>
                <a:latin typeface="Calibri"/>
              </a:rPr>
              <a:t>Pow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800" spc="-1" strike="noStrike">
                <a:solidFill>
                  <a:srgbClr val="000000"/>
                </a:solidFill>
                <a:latin typeface="Calibri"/>
              </a:rPr>
              <a:t>275 AZ H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3809880" y="548640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800" spc="-1" strike="noStrike">
                <a:solidFill>
                  <a:srgbClr val="000000"/>
                </a:solidFill>
                <a:latin typeface="Calibri"/>
              </a:rPr>
              <a:t>Taking 420 C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800" spc="-1" strike="noStrike">
                <a:solidFill>
                  <a:srgbClr val="000000"/>
                </a:solidFill>
                <a:latin typeface="Calibri"/>
              </a:rPr>
              <a:t>Off the R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6400800" y="548640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800" spc="-1" strike="noStrike">
                <a:solidFill>
                  <a:srgbClr val="000000"/>
                </a:solidFill>
                <a:latin typeface="Calibri"/>
              </a:rPr>
              <a:t>Averting  more than 4.9 million lbs of CO</a:t>
            </a:r>
            <a:r>
              <a:rPr b="0" i="1" lang="en-CA" sz="11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29200" y="655308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 compliments of SolEqu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990000"/>
                </a:solidFill>
                <a:latin typeface="Arial"/>
                <a:ea typeface="ＭＳ Ｐゴシック"/>
              </a:rPr>
              <a:t>2008 Reference Projects – Parking Structures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6091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1.6 MW of single-axis tracking solar canopies over Apache and Stadium Parking Structures.  Manufactured by Suntech, 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Polycrystalline Panels installed by SolEquity.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83" name="Picture 4" descr="ASU Parking Structure 1 C"/>
          <p:cNvPicPr/>
          <p:nvPr/>
        </p:nvPicPr>
        <p:blipFill>
          <a:blip r:embed="rId1"/>
          <a:stretch/>
        </p:blipFill>
        <p:spPr>
          <a:xfrm>
            <a:off x="838080" y="2895480"/>
            <a:ext cx="2408400" cy="1603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ASU Parking Structure 1 E"/>
          <p:cNvPicPr/>
          <p:nvPr/>
        </p:nvPicPr>
        <p:blipFill>
          <a:blip r:embed="rId2"/>
          <a:stretch/>
        </p:blipFill>
        <p:spPr>
          <a:xfrm>
            <a:off x="3429000" y="2895480"/>
            <a:ext cx="2408400" cy="1602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ASU Parking Structure 1 A"/>
          <p:cNvPicPr/>
          <p:nvPr/>
        </p:nvPicPr>
        <p:blipFill>
          <a:blip r:embed="rId3"/>
          <a:stretch/>
        </p:blipFill>
        <p:spPr>
          <a:xfrm>
            <a:off x="6019920" y="2895480"/>
            <a:ext cx="2385720" cy="1587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ASU Parking Structure 5 C"/>
          <p:cNvPicPr/>
          <p:nvPr/>
        </p:nvPicPr>
        <p:blipFill>
          <a:blip r:embed="rId4"/>
          <a:stretch/>
        </p:blipFill>
        <p:spPr>
          <a:xfrm>
            <a:off x="762120" y="4800600"/>
            <a:ext cx="2394000" cy="1592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ASU Parking Structure 5 E"/>
          <p:cNvPicPr/>
          <p:nvPr/>
        </p:nvPicPr>
        <p:blipFill>
          <a:blip r:embed="rId5"/>
          <a:stretch/>
        </p:blipFill>
        <p:spPr>
          <a:xfrm>
            <a:off x="3429000" y="4800600"/>
            <a:ext cx="2400480" cy="1584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" descr="ASU Parking Structure 5 A"/>
          <p:cNvPicPr/>
          <p:nvPr/>
        </p:nvPicPr>
        <p:blipFill>
          <a:blip r:embed="rId6"/>
          <a:stretch/>
        </p:blipFill>
        <p:spPr>
          <a:xfrm>
            <a:off x="6019920" y="4800600"/>
            <a:ext cx="2367000" cy="15796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181480" y="647712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oto credit - SolEqu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5345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Apache Parking Structure Solar Project</a:t>
            </a:r>
            <a:br>
              <a:rPr sz="3200"/>
            </a:b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91" name="Content Placeholder 5" descr="Apache Parking Structure, 880 kilowatt solar project.JPG"/>
          <p:cNvPicPr/>
          <p:nvPr/>
        </p:nvPicPr>
        <p:blipFill>
          <a:blip r:embed="rId1"/>
          <a:stretch/>
        </p:blipFill>
        <p:spPr>
          <a:xfrm>
            <a:off x="3352680" y="1752480"/>
            <a:ext cx="5791320" cy="37911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181480" y="647712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oto credit - SolEqu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2666880"/>
            <a:ext cx="312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880 kilowat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7T14:27:51Z</dcterms:created>
  <dc:creator>Bonny Bentzin</dc:creator>
  <dc:description/>
  <dc:language>en-US</dc:language>
  <cp:lastModifiedBy>Debra Harmon</cp:lastModifiedBy>
  <dcterms:modified xsi:type="dcterms:W3CDTF">2009-05-29T00:28:03Z</dcterms:modified>
  <cp:revision>36</cp:revision>
  <dc:subject/>
  <dc:title>Sustainability at ASU: here – there – and everywhere</dc:title>
</cp:coreProperties>
</file>