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1DA-F838-4C2D-B843-646F5FD4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144-4882-43D8-BF1E-F52C08B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881-9918-4DE4-A163-D9EFF6B4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46C-4350-462B-B096-9DACEF0B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A68-54FD-48D5-8EDA-14596607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525-22BA-4761-9F3A-B8782BF5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DF4-4531-4EC7-A437-BC3C0F62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1E8-311B-4CD0-8E04-12B662A2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366-9725-4868-B45D-5E11E5C5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E53-4C19-4EF0-95E0-714F5D58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F94-CFD5-437F-9BB7-F3CF7AA5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20E-B35C-4EA3-8B32-FB328F2B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C95A-2D1A-4295-84B1-93C1C5ADE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ls.la.asu.edu/herbarium/index.html" TargetMode="External"/><Relationship Id="rId3" Type="http://schemas.openxmlformats.org/officeDocument/2006/relationships/hyperlink" Target="http://ls.la.asu.edu/herbarium/index.html" TargetMode="External"/><Relationship Id="rId4" Type="http://schemas.openxmlformats.org/officeDocument/2006/relationships/hyperlink" Target="http://ls.la.asu.edu/herbarium/index.html" TargetMode="External"/><Relationship Id="rId5" Type="http://schemas.openxmlformats.org/officeDocument/2006/relationships/hyperlink" Target="http://ls.la.asu.edu/herbarium/index.html" TargetMode="External"/><Relationship Id="rId6" Type="http://schemas.openxmlformats.org/officeDocument/2006/relationships/hyperlink" Target="http://ls.la.asu.edu/herbarium/index.html" TargetMode="External"/><Relationship Id="rId7" Type="http://schemas.openxmlformats.org/officeDocument/2006/relationships/hyperlink" Target="http://ls.la.asu.edu/herbarium/index.html" TargetMode="External"/><Relationship Id="rId8" Type="http://schemas.openxmlformats.org/officeDocument/2006/relationships/hyperlink" Target="http://ls.la.asu.edu/herbarium/index.html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ls.la.asu.edu/herbarium/index.html" TargetMode="External"/><Relationship Id="rId3" Type="http://schemas.openxmlformats.org/officeDocument/2006/relationships/hyperlink" Target="http://ls.la.asu.edu/herbarium/index.html" TargetMode="External"/><Relationship Id="rId4" Type="http://schemas.openxmlformats.org/officeDocument/2006/relationships/hyperlink" Target="http://ls.la.asu.edu/herbarium/index.html" TargetMode="External"/><Relationship Id="rId5" Type="http://schemas.openxmlformats.org/officeDocument/2006/relationships/hyperlink" Target="http://ls.la.asu.edu/herbarium/index.html" TargetMode="External"/><Relationship Id="rId6" Type="http://schemas.openxmlformats.org/officeDocument/2006/relationships/hyperlink" Target="http://ls.la.asu.edu/herbarium/index.html" TargetMode="External"/><Relationship Id="rId7" Type="http://schemas.openxmlformats.org/officeDocument/2006/relationships/hyperlink" Target="http://ls.la.asu.edu/herbarium/index.html" TargetMode="External"/><Relationship Id="rId8" Type="http://schemas.openxmlformats.org/officeDocument/2006/relationships/hyperlink" Target="http://ls.la.asu.edu/herbarium/index.html" TargetMode="Externa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hyperlink" Target="http://ls.la.asu.edu/herbarium/index.html" TargetMode="External"/><Relationship Id="rId4" Type="http://schemas.openxmlformats.org/officeDocument/2006/relationships/hyperlink" Target="http://ls.la.asu.edu/herbarium/index.html" TargetMode="External"/><Relationship Id="rId5" Type="http://schemas.openxmlformats.org/officeDocument/2006/relationships/hyperlink" Target="http://ls.la.asu.edu/herbarium/index.html" TargetMode="External"/><Relationship Id="rId6" Type="http://schemas.openxmlformats.org/officeDocument/2006/relationships/hyperlink" Target="http://ls.la.asu.edu/herbarium/index.html" TargetMode="External"/><Relationship Id="rId7" Type="http://schemas.openxmlformats.org/officeDocument/2006/relationships/hyperlink" Target="http://ls.la.asu.edu/herbarium/index.html" TargetMode="External"/><Relationship Id="rId8" Type="http://schemas.openxmlformats.org/officeDocument/2006/relationships/hyperlink" Target="http://ls.la.asu.edu/herbarium/index.html" TargetMode="External"/><Relationship Id="rId9" Type="http://schemas.openxmlformats.org/officeDocument/2006/relationships/hyperlink" Target="http://ls.la.asu.edu/herbarium/index.html" TargetMode="External"/><Relationship Id="rId10" Type="http://schemas.openxmlformats.org/officeDocument/2006/relationships/hyperlink" Target="http://ls.la.asu.edu/herbarium/index.html" TargetMode="External"/><Relationship Id="rId11" Type="http://schemas.openxmlformats.org/officeDocument/2006/relationships/hyperlink" Target="http://ls.la.asu.edu/herbarium/index.html" TargetMode="External"/><Relationship Id="rId12" Type="http://schemas.openxmlformats.org/officeDocument/2006/relationships/hyperlink" Target="http://ls.la.asu.edu/herbarium/index.html" TargetMode="External"/><Relationship Id="rId13" Type="http://schemas.openxmlformats.org/officeDocument/2006/relationships/hyperlink" Target="http://ls.la.asu.edu/herbarium/index.html" TargetMode="External"/><Relationship Id="rId14" Type="http://schemas.openxmlformats.org/officeDocument/2006/relationships/hyperlink" Target="http://ls.la.asu.edu/herbarium/index.html" TargetMode="External"/><Relationship Id="rId15" Type="http://schemas.openxmlformats.org/officeDocument/2006/relationships/hyperlink" Target="http://ls.la.asu.edu/herbarium/index.html" TargetMode="External"/><Relationship Id="rId16" Type="http://schemas.openxmlformats.org/officeDocument/2006/relationships/hyperlink" Target="http://ls.la.asu.edu/herbarium/index.html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62480" y="544500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leoptera: Bruch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imosetes ulk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eetle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705360" cy="4503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90720" y="55548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510552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icture by Dr. Tim Cra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john2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4038840" cy="3630600"/>
          </a:xfrm>
          <a:prstGeom prst="rect">
            <a:avLst/>
          </a:prstGeom>
          <a:ln w="0">
            <a:noFill/>
          </a:ln>
        </p:spPr>
      </p:pic>
      <p:pic>
        <p:nvPicPr>
          <p:cNvPr id="81" name="John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344808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94040" y="491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000" y="4952880"/>
            <a:ext cx="78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llecting pods from Blue Palo Verde in the 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11480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icture by Dr. Tim Cra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0384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icture by Dr. Tim Cra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80880"/>
            <a:ext cx="1104912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y to the three Bruchid Bee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at feed on Blue Palo Verde seedpo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1a. Beetle is &lt; 3mm in length, has orange "bean-shaped"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rkings on the wing covers (elytra) .............Stator limb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1b. Beetle is larger than 2.5mm in length, with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range markings...........Go 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a. Beetle has light (or white) stripe down center of w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vers (elytra) with black border along sides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giving the appearance of a tuxedo..............Mimosestes ulk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b. Beetle has brown, grey, or golden wing cover (elytra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ith no stripe down center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back....................Mimosestes ami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sometimes this looks crescent-shaped or lobe-shap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70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15000" y="5064120"/>
            <a:ext cx="40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leoptera: Bruch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imosestes ami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howing emergence 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ggbeethole" descr=""/>
          <p:cNvPicPr/>
          <p:nvPr/>
        </p:nvPicPr>
        <p:blipFill>
          <a:blip r:embed="rId1"/>
          <a:stretch/>
        </p:blipFill>
        <p:spPr>
          <a:xfrm>
            <a:off x="1371600" y="755640"/>
            <a:ext cx="5791320" cy="4024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71600" y="44956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icture by Dr. Tim Cra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4952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9640" y="522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34280" y="5064120"/>
            <a:ext cx="51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leoptera: Bruch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rator limb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ultiple eggs laid by this beet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ultipleeggs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5562720" cy="4256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43434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icture by Dr. Tim Cra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43640" y="5257800"/>
            <a:ext cx="473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Unknown parasitic wasp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ttacked a bruchid bee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arasitoid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867280" cy="4332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457200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icture by Dr. Tim Cra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66600" y="5257800"/>
            <a:ext cx="36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ruchid pu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f an unknown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upa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553080" cy="3800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441972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icture by Dr. Tim Cra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273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8440" y="5292720"/>
            <a:ext cx="357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leoptera: Bruch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imosetes ulk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dult on 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eed-adult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095880" cy="4405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7920" y="472428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icture by Dr. Tim Cra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leaves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086600" cy="467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8840" y="5410080"/>
            <a:ext cx="33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ericidium flor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lue Palo Ve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4876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icture from ASU Herbarium,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l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.la.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asu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edu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/herbarium/index.htm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ods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470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37440" y="5305320"/>
            <a:ext cx="33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ericidium flor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lue Palo Ve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1360" y="4876920"/>
            <a:ext cx="349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icture from ASU Herbarium,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l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.la.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asu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edu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/herbarium/index.htm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oothills%20pods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566880" cy="5181480"/>
          </a:xfrm>
          <a:prstGeom prst="rect">
            <a:avLst/>
          </a:prstGeom>
          <a:ln w="0">
            <a:noFill/>
          </a:ln>
        </p:spPr>
      </p:pic>
      <p:pic>
        <p:nvPicPr>
          <p:cNvPr id="72" name="pods" descr=""/>
          <p:cNvPicPr/>
          <p:nvPr/>
        </p:nvPicPr>
        <p:blipFill>
          <a:blip r:embed="rId2"/>
          <a:stretch/>
        </p:blipFill>
        <p:spPr>
          <a:xfrm>
            <a:off x="4114800" y="990720"/>
            <a:ext cx="5029200" cy="3378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0600" y="61722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othills Palo Ve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94280" y="453060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lue Palo Ve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4320" y="304920"/>
            <a:ext cx="50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an you see the differ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76720" y="4952520"/>
            <a:ext cx="175248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80960" y="559764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Do not collect thes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77120" y="4114800"/>
            <a:ext cx="349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icture from ASU Herbarium,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l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.la.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asu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edu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/herbarium/index.htm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6560" y="5943600"/>
            <a:ext cx="349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icture from ASU Herbarium,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0"/>
              </a:rPr>
              <a:t>http://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1"/>
              </a:rPr>
              <a:t>l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2"/>
              </a:rPr>
              <a:t>.la.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3"/>
              </a:rPr>
              <a:t>asu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4"/>
              </a:rPr>
              <a:t>.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5"/>
              </a:rPr>
              <a:t>edu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6"/>
              </a:rPr>
              <a:t>/herbarium/index.htm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17:22:26Z</dcterms:created>
  <dc:creator>csaltz</dc:creator>
  <dc:description/>
  <dc:language>en-US</dc:language>
  <cp:lastModifiedBy>csaltz</cp:lastModifiedBy>
  <dcterms:modified xsi:type="dcterms:W3CDTF">2001-03-01T17:09:27Z</dcterms:modified>
  <cp:revision>4</cp:revision>
  <dc:subject/>
  <dc:title>PowerPoint Presentation</dc:title>
</cp:coreProperties>
</file>