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084-21B3-4F69-8DE5-8A847BB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88D-E12B-471B-B662-186159D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CC6-CABC-4FD2-83D6-DCE40CE3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150-F1B4-4437-97DC-9B2B0657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CA7-B7FC-4F34-B4F9-660AD508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E6C-3DD3-4408-98AA-B971E72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891-A242-4045-AB71-4D2831A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3DD-BA87-4979-AE09-9FDA5059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798-98F8-4F62-AB4A-643A40C4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A6A-CDCD-4E0F-9B2D-DCA3E74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4B0-6677-4937-9DA2-5C256197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C76-456A-43E5-90C2-46600E6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9E1-85AC-4E26-972B-C79ACDE9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 Illness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2 has the different treatment options.  Print out one copy of this slide for each group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one each of slides 3-10 and place them around your classroom a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Station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507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oor Perr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609624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 go running with your dog.  He looks like he could use the exercise too.  Your dog is a boxer. Your dog starts panting heavily, his eyes are open wide, and his gums are pale and dry.  You take him to the nearest house and determine his temperature is 10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Pj04018350000[1]"/>
          <p:cNvPicPr/>
          <p:nvPr/>
        </p:nvPicPr>
        <p:blipFill>
          <a:blip r:embed="rId1"/>
          <a:stretch/>
        </p:blipFill>
        <p:spPr>
          <a:xfrm>
            <a:off x="1371600" y="4800600"/>
            <a:ext cx="40384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47520"/>
          <a:ext cx="6477120" cy="823140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9280"/>
              </a:tblGrid>
              <a:tr h="20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lace ice packs on wrists, ankles, armpits, and ne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ll 9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ol body by wetting skin and blow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an, 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pp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t shee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move excess cloth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 normal activ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e down and make s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/s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esn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oke 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y fai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retch sore muscles and hold for 20 sec., then massag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peat 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eded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ve to a cooler     pl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eck to see if he/she is alert and awak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e it easy for several d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rink ½ gla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f water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ports dr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ve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 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ek medical attention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28" descr="MPj03372470000[1]"/>
          <p:cNvPicPr/>
          <p:nvPr/>
        </p:nvPicPr>
        <p:blipFill>
          <a:blip r:embed="rId1"/>
          <a:stretch/>
        </p:blipFill>
        <p:spPr>
          <a:xfrm>
            <a:off x="1295280" y="914400"/>
            <a:ext cx="949320" cy="12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MPj03879430000[1]"/>
          <p:cNvPicPr/>
          <p:nvPr/>
        </p:nvPicPr>
        <p:blipFill>
          <a:blip r:embed="rId2"/>
          <a:stretch/>
        </p:blipFill>
        <p:spPr>
          <a:xfrm>
            <a:off x="3124080" y="762120"/>
            <a:ext cx="685800" cy="127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MPj02020430000[1]"/>
          <p:cNvPicPr/>
          <p:nvPr/>
        </p:nvPicPr>
        <p:blipFill>
          <a:blip r:embed="rId3"/>
          <a:stretch/>
        </p:blipFill>
        <p:spPr>
          <a:xfrm>
            <a:off x="5791320" y="838080"/>
            <a:ext cx="84744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5" descr="MPj04223040000[1]"/>
          <p:cNvPicPr/>
          <p:nvPr/>
        </p:nvPicPr>
        <p:blipFill>
          <a:blip r:embed="rId4"/>
          <a:stretch/>
        </p:blipFill>
        <p:spPr>
          <a:xfrm>
            <a:off x="5562720" y="2819520"/>
            <a:ext cx="103320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6" descr="MPj04016350000[1]"/>
          <p:cNvPicPr/>
          <p:nvPr/>
        </p:nvPicPr>
        <p:blipFill>
          <a:blip r:embed="rId5"/>
          <a:stretch/>
        </p:blipFill>
        <p:spPr>
          <a:xfrm>
            <a:off x="1295280" y="685800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MPj04002080000[1]"/>
          <p:cNvPicPr/>
          <p:nvPr/>
        </p:nvPicPr>
        <p:blipFill>
          <a:blip r:embed="rId6"/>
          <a:stretch/>
        </p:blipFill>
        <p:spPr>
          <a:xfrm>
            <a:off x="2971800" y="304812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MPj04116810000[1]"/>
          <p:cNvPicPr/>
          <p:nvPr/>
        </p:nvPicPr>
        <p:blipFill>
          <a:blip r:embed="rId7"/>
          <a:stretch/>
        </p:blipFill>
        <p:spPr>
          <a:xfrm>
            <a:off x="3505320" y="6802560"/>
            <a:ext cx="990360" cy="135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http://www.sccky.edu/images/emergency-services/emergency-services-a.jpg"/>
          <p:cNvPicPr/>
          <p:nvPr/>
        </p:nvPicPr>
        <p:blipFill>
          <a:blip r:embed="rId8"/>
          <a:stretch/>
        </p:blipFill>
        <p:spPr>
          <a:xfrm>
            <a:off x="5029200" y="7010280"/>
            <a:ext cx="1073160" cy="110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C:\Documents and Settings\ghupton\Desktop\portabrella_tom_1.jpg"/>
          <p:cNvPicPr/>
          <p:nvPr/>
        </p:nvPicPr>
        <p:blipFill>
          <a:blip r:embed="rId9"/>
          <a:stretch/>
        </p:blipFill>
        <p:spPr>
          <a:xfrm>
            <a:off x="2971800" y="5029200"/>
            <a:ext cx="91764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C:\Documents and Settings\ghupton\Desktop\0WTCA5Z6SZ2CATK2IHOCAWML051CAQ567DKCAM78N55CAMNJ7PJCAJ7ERTLCANBEAM5CA9FO66VCA5VQ12UCAMYREAMCA6D3NDSCAM7WLUOCAK6CCF0CAXPHM6QCAEGSIGGCAYLEXD1CA9D5VDCCA4Y5LP7.jpg"/>
          <p:cNvPicPr/>
          <p:nvPr/>
        </p:nvPicPr>
        <p:blipFill>
          <a:blip r:embed="rId10"/>
          <a:stretch/>
        </p:blipFill>
        <p:spPr>
          <a:xfrm>
            <a:off x="5029200" y="518148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7" descr="C:\Documents and Settings\ghupton\Desktop\heatstrokestep4_L.jpg"/>
          <p:cNvPicPr/>
          <p:nvPr/>
        </p:nvPicPr>
        <p:blipFill>
          <a:blip r:embed="rId11"/>
          <a:stretch/>
        </p:blipFill>
        <p:spPr>
          <a:xfrm>
            <a:off x="457200" y="2971800"/>
            <a:ext cx="1692360" cy="120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C:\Documents and Settings\ghupton\Desktop\LUWCAZDVCUPCA4S7JTFCAKU9E0KCAZQIBTHCA03D8N9CA7P2IS8CAFVJYF9CA29H7F4CAIOQQMSCANO1BMDCASW4XU8CA82MOMYCA8FI3HUCABETQQSCAHXTAQCCA1OY4V5CAQ1HCEMCAWPGAJICABC4JY6.jpg"/>
          <p:cNvPicPr/>
          <p:nvPr/>
        </p:nvPicPr>
        <p:blipFill>
          <a:blip r:embed="rId12"/>
          <a:stretch/>
        </p:blipFill>
        <p:spPr>
          <a:xfrm>
            <a:off x="1166760" y="5257800"/>
            <a:ext cx="1225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ccer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Pj04340200000[1]"/>
          <p:cNvPicPr/>
          <p:nvPr/>
        </p:nvPicPr>
        <p:blipFill>
          <a:blip r:embed="rId1"/>
          <a:stretch/>
        </p:blipFill>
        <p:spPr>
          <a:xfrm>
            <a:off x="990720" y="1752480"/>
            <a:ext cx="1733400" cy="1447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52680" y="2362320"/>
            <a:ext cx="33148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playing soccer after school.  Your friend looks pale and sweaty.  She gets muscle cramps and the coach sends her to the bench because she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in a lot of pain.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" name="Picture 10" descr="http://www.gilroydispatch.com/content/img/f7234/GHS-girls-soccer-run-CR.jpg"/>
          <p:cNvPicPr/>
          <p:nvPr/>
        </p:nvPicPr>
        <p:blipFill>
          <a:blip r:embed="rId2"/>
          <a:stretch/>
        </p:blipFill>
        <p:spPr>
          <a:xfrm>
            <a:off x="685800" y="5486400"/>
            <a:ext cx="4286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isiting Grand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1980720"/>
            <a:ext cx="40194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at a family picnic at the park.  After playing volleyball, you go sit with your grandparents to eat lunch. Grandma says she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really thirsty.  When she tries to stand she feels dizzy and asks you to get her another sod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PPH03250I0000[1]"/>
          <p:cNvPicPr/>
          <p:nvPr/>
        </p:nvPicPr>
        <p:blipFill>
          <a:blip r:embed="rId1"/>
          <a:stretch/>
        </p:blipFill>
        <p:spPr>
          <a:xfrm>
            <a:off x="152280" y="5410080"/>
            <a:ext cx="39625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rip to the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8400" y="2031480"/>
            <a:ext cx="4286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 been at the beach all day with your friends.  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 had hamburgers, hot dogs, and soda for lunch.  You have a headache and feel nauseous and weak.  You go into an air conditioned restaurant and get some water, but you begin vo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Pj04227400000[1]"/>
          <p:cNvPicPr/>
          <p:nvPr/>
        </p:nvPicPr>
        <p:blipFill>
          <a:blip r:embed="rId1"/>
          <a:stretch/>
        </p:blipFill>
        <p:spPr>
          <a:xfrm>
            <a:off x="533520" y="4952880"/>
            <a:ext cx="28191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mme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5105520" cy="62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working as a gardener for the summer.  It is very hot today.  You drink plenty of water throughout the day, but 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still thirsty and sweating a lot, although your skin feels cool.  You feel weak so you take a break in an air conditioned place and get a salty snack.  While 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working on your next yard, you stop sweating and your face becomes flushed and hot.  You have a rapid weak pul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MPj04265530000[1]"/>
          <p:cNvPicPr/>
          <p:nvPr/>
        </p:nvPicPr>
        <p:blipFill>
          <a:blip r:embed="rId1"/>
          <a:stretch/>
        </p:blipFill>
        <p:spPr>
          <a:xfrm>
            <a:off x="609480" y="5562720"/>
            <a:ext cx="3200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ood Samari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361960"/>
            <a:ext cx="318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You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 working at Target and a mom and baby come in.  They are not shopping, and the mom is keeping an eye on her baby.  You go check on them and find out the baby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skin is red and hot.  Mom takes his temperature.  It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104.5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MPj04093630000[1]"/>
          <p:cNvPicPr/>
          <p:nvPr/>
        </p:nvPicPr>
        <p:blipFill>
          <a:blip r:embed="rId1"/>
          <a:stretch/>
        </p:blipFill>
        <p:spPr>
          <a:xfrm>
            <a:off x="228600" y="2641680"/>
            <a:ext cx="3429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and Can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wo hikers, Aidan and Jessica, hike into the Grand Canyon.  They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 been gone all day.  Aidan has been drinking water all day, and Jessica is drinking Gatorade.  While climbing back out of the canyon, Aidan is sweating a lot and looks pale.  He complains of having a headache and feels naus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MPj02624170000[1]"/>
          <p:cNvPicPr/>
          <p:nvPr/>
        </p:nvPicPr>
        <p:blipFill>
          <a:blip r:embed="rId1"/>
          <a:stretch/>
        </p:blipFill>
        <p:spPr>
          <a:xfrm>
            <a:off x="1905120" y="4343400"/>
            <a:ext cx="2948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3705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chool 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2133360"/>
            <a:ext cx="4051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school dance is finally here and Annika lost 10 pounds just in time by eating a very low calorie diet.  Annika and her date are having their pictures taken outside when Annika starts to feel f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7" descr="http://www.randazzoformalwear.com/images/specials/h%20prom.JPG"/>
          <p:cNvPicPr/>
          <p:nvPr/>
        </p:nvPicPr>
        <p:blipFill>
          <a:blip r:embed="rId1"/>
          <a:stretch/>
        </p:blipFill>
        <p:spPr>
          <a:xfrm>
            <a:off x="609480" y="4724280"/>
            <a:ext cx="26542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6:29:18Z</dcterms:created>
  <dc:creator>mcmcgraw</dc:creator>
  <dc:description/>
  <dc:language>en-US</dc:language>
  <cp:lastModifiedBy>Daniel Cavanaugh</cp:lastModifiedBy>
  <dcterms:modified xsi:type="dcterms:W3CDTF">2011-03-30T00:42:02Z</dcterms:modified>
  <cp:revision>52</cp:revision>
  <dc:subject/>
  <dc:title>Soccer Game</dc:title>
</cp:coreProperties>
</file>