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5859-67B7-487A-ABF5-6CE4C6E92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conducor Plant (from Amy Nel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 Laund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eni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384D-C7BF-4729-BFBB-D1EA3C621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5368-BE09-4B68-AB96-CE4218E2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5255-8C36-4E25-A8A5-FF6011FD3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46BC-8CF5-4F18-A4CB-D5827EDC9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38A3-65DC-4DBB-BD57-925D7DA9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66B1-CBD1-4D9E-A751-F516493E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D5AC-E58F-4F60-B5D1-237BC7F9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56B8-C099-48C5-A198-F6505984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62C7-D7EF-4138-90F6-84CA3C18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5B3B-152F-4CC4-B97E-CFCD5C62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5B60-E180-4269-BC36-9A71D0EC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843B-2ADC-40B2-A853-BA674285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9285-DCEC-4F00-B785-5BB2DD762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663264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001000" y="5961600"/>
            <a:ext cx="6094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848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001000" y="5961600"/>
            <a:ext cx="8380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229600" y="6105960"/>
            <a:ext cx="6094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04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229600" y="6190200"/>
            <a:ext cx="6094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35228" t="19267" r="0" b="0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229600" y="5961600"/>
            <a:ext cx="6094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229600" y="5961600"/>
            <a:ext cx="6094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48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229600" y="6105960"/>
            <a:ext cx="6094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229600" y="6182280"/>
            <a:ext cx="6094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97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229600" y="6030000"/>
            <a:ext cx="6094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848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8229600" y="6182280"/>
            <a:ext cx="6094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18:38:50Z</dcterms:created>
  <dc:creator>csaltz</dc:creator>
  <dc:description/>
  <dc:language>en-US</dc:language>
  <cp:lastModifiedBy>csaltz</cp:lastModifiedBy>
  <dcterms:modified xsi:type="dcterms:W3CDTF">2002-01-30T16:20:56Z</dcterms:modified>
  <cp:revision>5</cp:revision>
  <dc:subject/>
  <dc:title>Slide 1</dc:title>
</cp:coreProperties>
</file>